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628-A8E4-485E-B185-5D7784C7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DE5-A382-42AD-AAF2-0C086D0E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E40-2B62-45A6-815D-9C432124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F8C-A00E-49D6-BB5A-11825BE9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B66-2527-42B8-A82F-FCCE1F25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047-03BF-42AA-8F67-6E0599F2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7B7-96BF-4E42-AEFB-EBE61FBB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2D3-9158-4FF1-92D9-2E3CB83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128-5749-41BE-AF7E-E1DD768F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354-1088-40B6-B7D2-DF54086E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065-15BE-40A2-9299-82C2E875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E0B-8790-4CCD-95D9-E141E001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1066680"/>
            <a:ext cx="890640" cy="742680"/>
            <a:chOff x="228600" y="1066680"/>
            <a:chExt cx="890640" cy="742680"/>
          </a:xfrm>
        </p:grpSpPr>
        <p:sp>
          <p:nvSpPr>
            <p:cNvPr id="1" name=""/>
            <p:cNvSpPr/>
            <p:nvPr/>
          </p:nvSpPr>
          <p:spPr>
            <a:xfrm>
              <a:off x="410400" y="1066680"/>
              <a:ext cx="660960" cy="468360"/>
            </a:xfrm>
            <a:custGeom>
              <a:avLst/>
              <a:gdLst/>
              <a:ahLst/>
              <a:rect l="l" t="t" r="r" b="b"/>
              <a:pathLst>
                <a:path w="1165" h="955">
                  <a:moveTo>
                    <a:pt x="671" y="875"/>
                  </a:moveTo>
                  <a:lnTo>
                    <a:pt x="689" y="890"/>
                  </a:lnTo>
                  <a:lnTo>
                    <a:pt x="709" y="905"/>
                  </a:lnTo>
                  <a:lnTo>
                    <a:pt x="731" y="919"/>
                  </a:lnTo>
                  <a:lnTo>
                    <a:pt x="755" y="930"/>
                  </a:lnTo>
                  <a:lnTo>
                    <a:pt x="780" y="941"/>
                  </a:lnTo>
                  <a:lnTo>
                    <a:pt x="804" y="948"/>
                  </a:lnTo>
                  <a:lnTo>
                    <a:pt x="830" y="954"/>
                  </a:lnTo>
                  <a:lnTo>
                    <a:pt x="855" y="955"/>
                  </a:lnTo>
                  <a:lnTo>
                    <a:pt x="881" y="955"/>
                  </a:lnTo>
                  <a:lnTo>
                    <a:pt x="904" y="952"/>
                  </a:lnTo>
                  <a:lnTo>
                    <a:pt x="926" y="944"/>
                  </a:lnTo>
                  <a:lnTo>
                    <a:pt x="946" y="934"/>
                  </a:lnTo>
                  <a:lnTo>
                    <a:pt x="963" y="917"/>
                  </a:lnTo>
                  <a:lnTo>
                    <a:pt x="977" y="897"/>
                  </a:lnTo>
                  <a:lnTo>
                    <a:pt x="988" y="874"/>
                  </a:lnTo>
                  <a:lnTo>
                    <a:pt x="996" y="843"/>
                  </a:lnTo>
                  <a:lnTo>
                    <a:pt x="999" y="801"/>
                  </a:lnTo>
                  <a:lnTo>
                    <a:pt x="994" y="772"/>
                  </a:lnTo>
                  <a:lnTo>
                    <a:pt x="985" y="752"/>
                  </a:lnTo>
                  <a:lnTo>
                    <a:pt x="970" y="741"/>
                  </a:lnTo>
                  <a:lnTo>
                    <a:pt x="955" y="737"/>
                  </a:lnTo>
                  <a:lnTo>
                    <a:pt x="943" y="737"/>
                  </a:lnTo>
                  <a:lnTo>
                    <a:pt x="932" y="743"/>
                  </a:lnTo>
                  <a:lnTo>
                    <a:pt x="926" y="750"/>
                  </a:lnTo>
                  <a:lnTo>
                    <a:pt x="923" y="763"/>
                  </a:lnTo>
                  <a:lnTo>
                    <a:pt x="921" y="777"/>
                  </a:lnTo>
                  <a:lnTo>
                    <a:pt x="926" y="796"/>
                  </a:lnTo>
                  <a:lnTo>
                    <a:pt x="943" y="817"/>
                  </a:lnTo>
                  <a:lnTo>
                    <a:pt x="946" y="830"/>
                  </a:lnTo>
                  <a:lnTo>
                    <a:pt x="945" y="846"/>
                  </a:lnTo>
                  <a:lnTo>
                    <a:pt x="939" y="865"/>
                  </a:lnTo>
                  <a:lnTo>
                    <a:pt x="928" y="881"/>
                  </a:lnTo>
                  <a:lnTo>
                    <a:pt x="912" y="895"/>
                  </a:lnTo>
                  <a:lnTo>
                    <a:pt x="892" y="905"/>
                  </a:lnTo>
                  <a:lnTo>
                    <a:pt x="870" y="906"/>
                  </a:lnTo>
                  <a:lnTo>
                    <a:pt x="842" y="895"/>
                  </a:lnTo>
                  <a:lnTo>
                    <a:pt x="817" y="877"/>
                  </a:lnTo>
                  <a:lnTo>
                    <a:pt x="793" y="857"/>
                  </a:lnTo>
                  <a:lnTo>
                    <a:pt x="771" y="835"/>
                  </a:lnTo>
                  <a:lnTo>
                    <a:pt x="757" y="808"/>
                  </a:lnTo>
                  <a:lnTo>
                    <a:pt x="746" y="776"/>
                  </a:lnTo>
                  <a:lnTo>
                    <a:pt x="742" y="739"/>
                  </a:lnTo>
                  <a:lnTo>
                    <a:pt x="744" y="696"/>
                  </a:lnTo>
                  <a:lnTo>
                    <a:pt x="755" y="647"/>
                  </a:lnTo>
                  <a:lnTo>
                    <a:pt x="762" y="686"/>
                  </a:lnTo>
                  <a:lnTo>
                    <a:pt x="769" y="726"/>
                  </a:lnTo>
                  <a:lnTo>
                    <a:pt x="777" y="768"/>
                  </a:lnTo>
                  <a:lnTo>
                    <a:pt x="784" y="810"/>
                  </a:lnTo>
                  <a:lnTo>
                    <a:pt x="799" y="772"/>
                  </a:lnTo>
                  <a:lnTo>
                    <a:pt x="811" y="717"/>
                  </a:lnTo>
                  <a:lnTo>
                    <a:pt x="819" y="652"/>
                  </a:lnTo>
                  <a:lnTo>
                    <a:pt x="819" y="581"/>
                  </a:lnTo>
                  <a:lnTo>
                    <a:pt x="835" y="572"/>
                  </a:lnTo>
                  <a:lnTo>
                    <a:pt x="837" y="554"/>
                  </a:lnTo>
                  <a:lnTo>
                    <a:pt x="833" y="525"/>
                  </a:lnTo>
                  <a:lnTo>
                    <a:pt x="828" y="474"/>
                  </a:lnTo>
                  <a:lnTo>
                    <a:pt x="822" y="416"/>
                  </a:lnTo>
                  <a:lnTo>
                    <a:pt x="813" y="370"/>
                  </a:lnTo>
                  <a:lnTo>
                    <a:pt x="802" y="338"/>
                  </a:lnTo>
                  <a:lnTo>
                    <a:pt x="793" y="314"/>
                  </a:lnTo>
                  <a:lnTo>
                    <a:pt x="786" y="298"/>
                  </a:lnTo>
                  <a:lnTo>
                    <a:pt x="786" y="285"/>
                  </a:lnTo>
                  <a:lnTo>
                    <a:pt x="790" y="272"/>
                  </a:lnTo>
                  <a:lnTo>
                    <a:pt x="804" y="258"/>
                  </a:lnTo>
                  <a:lnTo>
                    <a:pt x="824" y="249"/>
                  </a:lnTo>
                  <a:lnTo>
                    <a:pt x="837" y="258"/>
                  </a:lnTo>
                  <a:lnTo>
                    <a:pt x="837" y="276"/>
                  </a:lnTo>
                  <a:lnTo>
                    <a:pt x="824" y="301"/>
                  </a:lnTo>
                  <a:lnTo>
                    <a:pt x="822" y="316"/>
                  </a:lnTo>
                  <a:lnTo>
                    <a:pt x="828" y="343"/>
                  </a:lnTo>
                  <a:lnTo>
                    <a:pt x="839" y="379"/>
                  </a:lnTo>
                  <a:lnTo>
                    <a:pt x="846" y="428"/>
                  </a:lnTo>
                  <a:lnTo>
                    <a:pt x="850" y="447"/>
                  </a:lnTo>
                  <a:lnTo>
                    <a:pt x="857" y="452"/>
                  </a:lnTo>
                  <a:lnTo>
                    <a:pt x="866" y="448"/>
                  </a:lnTo>
                  <a:lnTo>
                    <a:pt x="877" y="436"/>
                  </a:lnTo>
                  <a:lnTo>
                    <a:pt x="890" y="421"/>
                  </a:lnTo>
                  <a:lnTo>
                    <a:pt x="903" y="403"/>
                  </a:lnTo>
                  <a:lnTo>
                    <a:pt x="915" y="387"/>
                  </a:lnTo>
                  <a:lnTo>
                    <a:pt x="926" y="376"/>
                  </a:lnTo>
                  <a:lnTo>
                    <a:pt x="943" y="363"/>
                  </a:lnTo>
                  <a:lnTo>
                    <a:pt x="970" y="345"/>
                  </a:lnTo>
                  <a:lnTo>
                    <a:pt x="1003" y="325"/>
                  </a:lnTo>
                  <a:lnTo>
                    <a:pt x="1041" y="303"/>
                  </a:lnTo>
                  <a:lnTo>
                    <a:pt x="1078" y="283"/>
                  </a:lnTo>
                  <a:lnTo>
                    <a:pt x="1112" y="265"/>
                  </a:lnTo>
                  <a:lnTo>
                    <a:pt x="1143" y="252"/>
                  </a:lnTo>
                  <a:lnTo>
                    <a:pt x="1165" y="247"/>
                  </a:lnTo>
                  <a:lnTo>
                    <a:pt x="1158" y="236"/>
                  </a:lnTo>
                  <a:lnTo>
                    <a:pt x="1151" y="221"/>
                  </a:lnTo>
                  <a:lnTo>
                    <a:pt x="1141" y="203"/>
                  </a:lnTo>
                  <a:lnTo>
                    <a:pt x="1132" y="183"/>
                  </a:lnTo>
                  <a:lnTo>
                    <a:pt x="1121" y="161"/>
                  </a:lnTo>
                  <a:lnTo>
                    <a:pt x="1110" y="138"/>
                  </a:lnTo>
                  <a:lnTo>
                    <a:pt x="1096" y="116"/>
                  </a:lnTo>
                  <a:lnTo>
                    <a:pt x="1079" y="94"/>
                  </a:lnTo>
                  <a:lnTo>
                    <a:pt x="1063" y="72"/>
                  </a:lnTo>
                  <a:lnTo>
                    <a:pt x="1043" y="54"/>
                  </a:lnTo>
                  <a:lnTo>
                    <a:pt x="1021" y="38"/>
                  </a:lnTo>
                  <a:lnTo>
                    <a:pt x="997" y="25"/>
                  </a:lnTo>
                  <a:lnTo>
                    <a:pt x="970" y="18"/>
                  </a:lnTo>
                  <a:lnTo>
                    <a:pt x="941" y="14"/>
                  </a:lnTo>
                  <a:lnTo>
                    <a:pt x="908" y="16"/>
                  </a:lnTo>
                  <a:lnTo>
                    <a:pt x="873" y="25"/>
                  </a:lnTo>
                  <a:lnTo>
                    <a:pt x="813" y="45"/>
                  </a:lnTo>
                  <a:lnTo>
                    <a:pt x="780" y="56"/>
                  </a:lnTo>
                  <a:lnTo>
                    <a:pt x="768" y="60"/>
                  </a:lnTo>
                  <a:lnTo>
                    <a:pt x="769" y="60"/>
                  </a:lnTo>
                  <a:lnTo>
                    <a:pt x="777" y="58"/>
                  </a:lnTo>
                  <a:lnTo>
                    <a:pt x="784" y="54"/>
                  </a:lnTo>
                  <a:lnTo>
                    <a:pt x="788" y="51"/>
                  </a:lnTo>
                  <a:lnTo>
                    <a:pt x="779" y="51"/>
                  </a:lnTo>
                  <a:lnTo>
                    <a:pt x="797" y="60"/>
                  </a:lnTo>
                  <a:lnTo>
                    <a:pt x="811" y="71"/>
                  </a:lnTo>
                  <a:lnTo>
                    <a:pt x="826" y="83"/>
                  </a:lnTo>
                  <a:lnTo>
                    <a:pt x="837" y="96"/>
                  </a:lnTo>
                  <a:lnTo>
                    <a:pt x="846" y="109"/>
                  </a:lnTo>
                  <a:lnTo>
                    <a:pt x="850" y="121"/>
                  </a:lnTo>
                  <a:lnTo>
                    <a:pt x="852" y="136"/>
                  </a:lnTo>
                  <a:lnTo>
                    <a:pt x="848" y="149"/>
                  </a:lnTo>
                  <a:lnTo>
                    <a:pt x="828" y="120"/>
                  </a:lnTo>
                  <a:lnTo>
                    <a:pt x="808" y="100"/>
                  </a:lnTo>
                  <a:lnTo>
                    <a:pt x="790" y="85"/>
                  </a:lnTo>
                  <a:lnTo>
                    <a:pt x="773" y="78"/>
                  </a:lnTo>
                  <a:lnTo>
                    <a:pt x="755" y="74"/>
                  </a:lnTo>
                  <a:lnTo>
                    <a:pt x="735" y="74"/>
                  </a:lnTo>
                  <a:lnTo>
                    <a:pt x="713" y="74"/>
                  </a:lnTo>
                  <a:lnTo>
                    <a:pt x="689" y="74"/>
                  </a:lnTo>
                  <a:lnTo>
                    <a:pt x="662" y="72"/>
                  </a:lnTo>
                  <a:lnTo>
                    <a:pt x="631" y="69"/>
                  </a:lnTo>
                  <a:lnTo>
                    <a:pt x="598" y="63"/>
                  </a:lnTo>
                  <a:lnTo>
                    <a:pt x="567" y="63"/>
                  </a:lnTo>
                  <a:lnTo>
                    <a:pt x="536" y="65"/>
                  </a:lnTo>
                  <a:lnTo>
                    <a:pt x="511" y="76"/>
                  </a:lnTo>
                  <a:lnTo>
                    <a:pt x="492" y="96"/>
                  </a:lnTo>
                  <a:lnTo>
                    <a:pt x="480" y="129"/>
                  </a:lnTo>
                  <a:lnTo>
                    <a:pt x="465" y="103"/>
                  </a:lnTo>
                  <a:lnTo>
                    <a:pt x="463" y="78"/>
                  </a:lnTo>
                  <a:lnTo>
                    <a:pt x="476" y="58"/>
                  </a:lnTo>
                  <a:lnTo>
                    <a:pt x="505" y="45"/>
                  </a:lnTo>
                  <a:lnTo>
                    <a:pt x="458" y="29"/>
                  </a:lnTo>
                  <a:lnTo>
                    <a:pt x="414" y="16"/>
                  </a:lnTo>
                  <a:lnTo>
                    <a:pt x="376" y="7"/>
                  </a:lnTo>
                  <a:lnTo>
                    <a:pt x="343" y="2"/>
                  </a:lnTo>
                  <a:lnTo>
                    <a:pt x="312" y="0"/>
                  </a:lnTo>
                  <a:lnTo>
                    <a:pt x="283" y="2"/>
                  </a:lnTo>
                  <a:lnTo>
                    <a:pt x="257" y="5"/>
                  </a:lnTo>
                  <a:lnTo>
                    <a:pt x="232" y="12"/>
                  </a:lnTo>
                  <a:lnTo>
                    <a:pt x="208" y="23"/>
                  </a:lnTo>
                  <a:lnTo>
                    <a:pt x="184" y="36"/>
                  </a:lnTo>
                  <a:lnTo>
                    <a:pt x="159" y="52"/>
                  </a:lnTo>
                  <a:lnTo>
                    <a:pt x="133" y="71"/>
                  </a:lnTo>
                  <a:lnTo>
                    <a:pt x="104" y="92"/>
                  </a:lnTo>
                  <a:lnTo>
                    <a:pt x="73" y="116"/>
                  </a:lnTo>
                  <a:lnTo>
                    <a:pt x="38" y="141"/>
                  </a:lnTo>
                  <a:lnTo>
                    <a:pt x="0" y="169"/>
                  </a:lnTo>
                  <a:lnTo>
                    <a:pt x="31" y="194"/>
                  </a:lnTo>
                  <a:lnTo>
                    <a:pt x="66" y="214"/>
                  </a:lnTo>
                  <a:lnTo>
                    <a:pt x="100" y="232"/>
                  </a:lnTo>
                  <a:lnTo>
                    <a:pt x="137" y="250"/>
                  </a:lnTo>
                  <a:lnTo>
                    <a:pt x="173" y="272"/>
                  </a:lnTo>
                  <a:lnTo>
                    <a:pt x="212" y="299"/>
                  </a:lnTo>
                  <a:lnTo>
                    <a:pt x="250" y="334"/>
                  </a:lnTo>
                  <a:lnTo>
                    <a:pt x="286" y="379"/>
                  </a:lnTo>
                  <a:lnTo>
                    <a:pt x="312" y="412"/>
                  </a:lnTo>
                  <a:lnTo>
                    <a:pt x="334" y="432"/>
                  </a:lnTo>
                  <a:lnTo>
                    <a:pt x="352" y="441"/>
                  </a:lnTo>
                  <a:lnTo>
                    <a:pt x="365" y="443"/>
                  </a:lnTo>
                  <a:lnTo>
                    <a:pt x="374" y="439"/>
                  </a:lnTo>
                  <a:lnTo>
                    <a:pt x="379" y="434"/>
                  </a:lnTo>
                  <a:lnTo>
                    <a:pt x="383" y="428"/>
                  </a:lnTo>
                  <a:lnTo>
                    <a:pt x="385" y="425"/>
                  </a:lnTo>
                  <a:lnTo>
                    <a:pt x="390" y="418"/>
                  </a:lnTo>
                  <a:lnTo>
                    <a:pt x="396" y="427"/>
                  </a:lnTo>
                  <a:lnTo>
                    <a:pt x="403" y="447"/>
                  </a:lnTo>
                  <a:lnTo>
                    <a:pt x="419" y="463"/>
                  </a:lnTo>
                  <a:lnTo>
                    <a:pt x="429" y="472"/>
                  </a:lnTo>
                  <a:lnTo>
                    <a:pt x="439" y="483"/>
                  </a:lnTo>
                  <a:lnTo>
                    <a:pt x="452" y="494"/>
                  </a:lnTo>
                  <a:lnTo>
                    <a:pt x="463" y="503"/>
                  </a:lnTo>
                  <a:lnTo>
                    <a:pt x="474" y="503"/>
                  </a:lnTo>
                  <a:lnTo>
                    <a:pt x="481" y="496"/>
                  </a:lnTo>
                  <a:lnTo>
                    <a:pt x="485" y="472"/>
                  </a:lnTo>
                  <a:lnTo>
                    <a:pt x="485" y="434"/>
                  </a:lnTo>
                  <a:lnTo>
                    <a:pt x="487" y="390"/>
                  </a:lnTo>
                  <a:lnTo>
                    <a:pt x="498" y="359"/>
                  </a:lnTo>
                  <a:lnTo>
                    <a:pt x="511" y="339"/>
                  </a:lnTo>
                  <a:lnTo>
                    <a:pt x="520" y="327"/>
                  </a:lnTo>
                  <a:lnTo>
                    <a:pt x="518" y="319"/>
                  </a:lnTo>
                  <a:lnTo>
                    <a:pt x="511" y="310"/>
                  </a:lnTo>
                  <a:lnTo>
                    <a:pt x="500" y="299"/>
                  </a:lnTo>
                  <a:lnTo>
                    <a:pt x="491" y="287"/>
                  </a:lnTo>
                  <a:lnTo>
                    <a:pt x="481" y="278"/>
                  </a:lnTo>
                  <a:lnTo>
                    <a:pt x="478" y="269"/>
                  </a:lnTo>
                  <a:lnTo>
                    <a:pt x="481" y="261"/>
                  </a:lnTo>
                  <a:lnTo>
                    <a:pt x="494" y="258"/>
                  </a:lnTo>
                  <a:lnTo>
                    <a:pt x="511" y="258"/>
                  </a:lnTo>
                  <a:lnTo>
                    <a:pt x="527" y="265"/>
                  </a:lnTo>
                  <a:lnTo>
                    <a:pt x="540" y="274"/>
                  </a:lnTo>
                  <a:lnTo>
                    <a:pt x="549" y="287"/>
                  </a:lnTo>
                  <a:lnTo>
                    <a:pt x="554" y="301"/>
                  </a:lnTo>
                  <a:lnTo>
                    <a:pt x="556" y="316"/>
                  </a:lnTo>
                  <a:lnTo>
                    <a:pt x="551" y="330"/>
                  </a:lnTo>
                  <a:lnTo>
                    <a:pt x="542" y="345"/>
                  </a:lnTo>
                  <a:lnTo>
                    <a:pt x="523" y="389"/>
                  </a:lnTo>
                  <a:lnTo>
                    <a:pt x="514" y="454"/>
                  </a:lnTo>
                  <a:lnTo>
                    <a:pt x="514" y="518"/>
                  </a:lnTo>
                  <a:lnTo>
                    <a:pt x="520" y="557"/>
                  </a:lnTo>
                  <a:lnTo>
                    <a:pt x="529" y="570"/>
                  </a:lnTo>
                  <a:lnTo>
                    <a:pt x="540" y="572"/>
                  </a:lnTo>
                  <a:lnTo>
                    <a:pt x="553" y="568"/>
                  </a:lnTo>
                  <a:lnTo>
                    <a:pt x="567" y="565"/>
                  </a:lnTo>
                  <a:lnTo>
                    <a:pt x="580" y="567"/>
                  </a:lnTo>
                  <a:lnTo>
                    <a:pt x="591" y="577"/>
                  </a:lnTo>
                  <a:lnTo>
                    <a:pt x="598" y="603"/>
                  </a:lnTo>
                  <a:lnTo>
                    <a:pt x="602" y="650"/>
                  </a:lnTo>
                  <a:lnTo>
                    <a:pt x="602" y="692"/>
                  </a:lnTo>
                  <a:lnTo>
                    <a:pt x="605" y="739"/>
                  </a:lnTo>
                  <a:lnTo>
                    <a:pt x="611" y="785"/>
                  </a:lnTo>
                  <a:lnTo>
                    <a:pt x="625" y="817"/>
                  </a:lnTo>
                  <a:lnTo>
                    <a:pt x="636" y="834"/>
                  </a:lnTo>
                  <a:lnTo>
                    <a:pt x="647" y="850"/>
                  </a:lnTo>
                  <a:lnTo>
                    <a:pt x="660" y="866"/>
                  </a:lnTo>
                  <a:lnTo>
                    <a:pt x="671" y="87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60440" y="1210680"/>
              <a:ext cx="330480" cy="567720"/>
            </a:xfrm>
            <a:custGeom>
              <a:avLst/>
              <a:gdLst/>
              <a:ahLst/>
              <a:rect l="l" t="t" r="r" b="b"/>
              <a:pathLst>
                <a:path w="582" h="1159">
                  <a:moveTo>
                    <a:pt x="66" y="970"/>
                  </a:moveTo>
                  <a:lnTo>
                    <a:pt x="64" y="990"/>
                  </a:lnTo>
                  <a:lnTo>
                    <a:pt x="61" y="1012"/>
                  </a:lnTo>
                  <a:lnTo>
                    <a:pt x="62" y="1032"/>
                  </a:lnTo>
                  <a:lnTo>
                    <a:pt x="77" y="1043"/>
                  </a:lnTo>
                  <a:lnTo>
                    <a:pt x="93" y="1045"/>
                  </a:lnTo>
                  <a:lnTo>
                    <a:pt x="115" y="1047"/>
                  </a:lnTo>
                  <a:lnTo>
                    <a:pt x="141" y="1049"/>
                  </a:lnTo>
                  <a:lnTo>
                    <a:pt x="168" y="1047"/>
                  </a:lnTo>
                  <a:lnTo>
                    <a:pt x="192" y="1045"/>
                  </a:lnTo>
                  <a:lnTo>
                    <a:pt x="214" y="1041"/>
                  </a:lnTo>
                  <a:lnTo>
                    <a:pt x="226" y="1036"/>
                  </a:lnTo>
                  <a:lnTo>
                    <a:pt x="230" y="1027"/>
                  </a:lnTo>
                  <a:lnTo>
                    <a:pt x="225" y="980"/>
                  </a:lnTo>
                  <a:lnTo>
                    <a:pt x="214" y="914"/>
                  </a:lnTo>
                  <a:lnTo>
                    <a:pt x="203" y="847"/>
                  </a:lnTo>
                  <a:lnTo>
                    <a:pt x="194" y="794"/>
                  </a:lnTo>
                  <a:lnTo>
                    <a:pt x="192" y="729"/>
                  </a:lnTo>
                  <a:lnTo>
                    <a:pt x="183" y="658"/>
                  </a:lnTo>
                  <a:lnTo>
                    <a:pt x="175" y="585"/>
                  </a:lnTo>
                  <a:lnTo>
                    <a:pt x="174" y="522"/>
                  </a:lnTo>
                  <a:lnTo>
                    <a:pt x="185" y="560"/>
                  </a:lnTo>
                  <a:lnTo>
                    <a:pt x="195" y="598"/>
                  </a:lnTo>
                  <a:lnTo>
                    <a:pt x="205" y="634"/>
                  </a:lnTo>
                  <a:lnTo>
                    <a:pt x="216" y="667"/>
                  </a:lnTo>
                  <a:lnTo>
                    <a:pt x="226" y="700"/>
                  </a:lnTo>
                  <a:lnTo>
                    <a:pt x="236" y="727"/>
                  </a:lnTo>
                  <a:lnTo>
                    <a:pt x="247" y="752"/>
                  </a:lnTo>
                  <a:lnTo>
                    <a:pt x="257" y="771"/>
                  </a:lnTo>
                  <a:lnTo>
                    <a:pt x="250" y="851"/>
                  </a:lnTo>
                  <a:lnTo>
                    <a:pt x="241" y="923"/>
                  </a:lnTo>
                  <a:lnTo>
                    <a:pt x="234" y="981"/>
                  </a:lnTo>
                  <a:lnTo>
                    <a:pt x="232" y="1027"/>
                  </a:lnTo>
                  <a:lnTo>
                    <a:pt x="272" y="1141"/>
                  </a:lnTo>
                  <a:lnTo>
                    <a:pt x="285" y="1110"/>
                  </a:lnTo>
                  <a:lnTo>
                    <a:pt x="296" y="1094"/>
                  </a:lnTo>
                  <a:lnTo>
                    <a:pt x="307" y="1087"/>
                  </a:lnTo>
                  <a:lnTo>
                    <a:pt x="316" y="1090"/>
                  </a:lnTo>
                  <a:lnTo>
                    <a:pt x="323" y="1101"/>
                  </a:lnTo>
                  <a:lnTo>
                    <a:pt x="330" y="1118"/>
                  </a:lnTo>
                  <a:lnTo>
                    <a:pt x="334" y="1138"/>
                  </a:lnTo>
                  <a:lnTo>
                    <a:pt x="334" y="1158"/>
                  </a:lnTo>
                  <a:lnTo>
                    <a:pt x="343" y="1156"/>
                  </a:lnTo>
                  <a:lnTo>
                    <a:pt x="349" y="1123"/>
                  </a:lnTo>
                  <a:lnTo>
                    <a:pt x="358" y="1103"/>
                  </a:lnTo>
                  <a:lnTo>
                    <a:pt x="367" y="1096"/>
                  </a:lnTo>
                  <a:lnTo>
                    <a:pt x="378" y="1098"/>
                  </a:lnTo>
                  <a:lnTo>
                    <a:pt x="387" y="1107"/>
                  </a:lnTo>
                  <a:lnTo>
                    <a:pt x="394" y="1121"/>
                  </a:lnTo>
                  <a:lnTo>
                    <a:pt x="402" y="1139"/>
                  </a:lnTo>
                  <a:lnTo>
                    <a:pt x="405" y="1159"/>
                  </a:lnTo>
                  <a:lnTo>
                    <a:pt x="416" y="1154"/>
                  </a:lnTo>
                  <a:lnTo>
                    <a:pt x="416" y="1121"/>
                  </a:lnTo>
                  <a:lnTo>
                    <a:pt x="420" y="1101"/>
                  </a:lnTo>
                  <a:lnTo>
                    <a:pt x="427" y="1090"/>
                  </a:lnTo>
                  <a:lnTo>
                    <a:pt x="438" y="1090"/>
                  </a:lnTo>
                  <a:lnTo>
                    <a:pt x="449" y="1098"/>
                  </a:lnTo>
                  <a:lnTo>
                    <a:pt x="458" y="1112"/>
                  </a:lnTo>
                  <a:lnTo>
                    <a:pt x="469" y="1129"/>
                  </a:lnTo>
                  <a:lnTo>
                    <a:pt x="476" y="1147"/>
                  </a:lnTo>
                  <a:lnTo>
                    <a:pt x="458" y="1041"/>
                  </a:lnTo>
                  <a:lnTo>
                    <a:pt x="445" y="1003"/>
                  </a:lnTo>
                  <a:lnTo>
                    <a:pt x="434" y="961"/>
                  </a:lnTo>
                  <a:lnTo>
                    <a:pt x="425" y="900"/>
                  </a:lnTo>
                  <a:lnTo>
                    <a:pt x="420" y="798"/>
                  </a:lnTo>
                  <a:lnTo>
                    <a:pt x="414" y="714"/>
                  </a:lnTo>
                  <a:lnTo>
                    <a:pt x="409" y="669"/>
                  </a:lnTo>
                  <a:lnTo>
                    <a:pt x="402" y="605"/>
                  </a:lnTo>
                  <a:lnTo>
                    <a:pt x="396" y="462"/>
                  </a:lnTo>
                  <a:lnTo>
                    <a:pt x="402" y="493"/>
                  </a:lnTo>
                  <a:lnTo>
                    <a:pt x="409" y="553"/>
                  </a:lnTo>
                  <a:lnTo>
                    <a:pt x="422" y="633"/>
                  </a:lnTo>
                  <a:lnTo>
                    <a:pt x="434" y="722"/>
                  </a:lnTo>
                  <a:lnTo>
                    <a:pt x="447" y="809"/>
                  </a:lnTo>
                  <a:lnTo>
                    <a:pt x="458" y="885"/>
                  </a:lnTo>
                  <a:lnTo>
                    <a:pt x="467" y="940"/>
                  </a:lnTo>
                  <a:lnTo>
                    <a:pt x="473" y="963"/>
                  </a:lnTo>
                  <a:lnTo>
                    <a:pt x="495" y="921"/>
                  </a:lnTo>
                  <a:lnTo>
                    <a:pt x="513" y="889"/>
                  </a:lnTo>
                  <a:lnTo>
                    <a:pt x="527" y="861"/>
                  </a:lnTo>
                  <a:lnTo>
                    <a:pt x="538" y="836"/>
                  </a:lnTo>
                  <a:lnTo>
                    <a:pt x="547" y="809"/>
                  </a:lnTo>
                  <a:lnTo>
                    <a:pt x="553" y="778"/>
                  </a:lnTo>
                  <a:lnTo>
                    <a:pt x="555" y="738"/>
                  </a:lnTo>
                  <a:lnTo>
                    <a:pt x="557" y="687"/>
                  </a:lnTo>
                  <a:lnTo>
                    <a:pt x="557" y="654"/>
                  </a:lnTo>
                  <a:lnTo>
                    <a:pt x="560" y="627"/>
                  </a:lnTo>
                  <a:lnTo>
                    <a:pt x="567" y="603"/>
                  </a:lnTo>
                  <a:lnTo>
                    <a:pt x="582" y="583"/>
                  </a:lnTo>
                  <a:lnTo>
                    <a:pt x="571" y="574"/>
                  </a:lnTo>
                  <a:lnTo>
                    <a:pt x="558" y="558"/>
                  </a:lnTo>
                  <a:lnTo>
                    <a:pt x="547" y="542"/>
                  </a:lnTo>
                  <a:lnTo>
                    <a:pt x="536" y="525"/>
                  </a:lnTo>
                  <a:lnTo>
                    <a:pt x="524" y="516"/>
                  </a:lnTo>
                  <a:lnTo>
                    <a:pt x="509" y="505"/>
                  </a:lnTo>
                  <a:lnTo>
                    <a:pt x="496" y="493"/>
                  </a:lnTo>
                  <a:lnTo>
                    <a:pt x="484" y="473"/>
                  </a:lnTo>
                  <a:lnTo>
                    <a:pt x="469" y="445"/>
                  </a:lnTo>
                  <a:lnTo>
                    <a:pt x="456" y="411"/>
                  </a:lnTo>
                  <a:lnTo>
                    <a:pt x="443" y="365"/>
                  </a:lnTo>
                  <a:lnTo>
                    <a:pt x="431" y="305"/>
                  </a:lnTo>
                  <a:lnTo>
                    <a:pt x="412" y="295"/>
                  </a:lnTo>
                  <a:lnTo>
                    <a:pt x="398" y="278"/>
                  </a:lnTo>
                  <a:lnTo>
                    <a:pt x="389" y="262"/>
                  </a:lnTo>
                  <a:lnTo>
                    <a:pt x="385" y="245"/>
                  </a:lnTo>
                  <a:lnTo>
                    <a:pt x="376" y="247"/>
                  </a:lnTo>
                  <a:lnTo>
                    <a:pt x="365" y="245"/>
                  </a:lnTo>
                  <a:lnTo>
                    <a:pt x="354" y="242"/>
                  </a:lnTo>
                  <a:lnTo>
                    <a:pt x="341" y="236"/>
                  </a:lnTo>
                  <a:lnTo>
                    <a:pt x="327" y="229"/>
                  </a:lnTo>
                  <a:lnTo>
                    <a:pt x="316" y="220"/>
                  </a:lnTo>
                  <a:lnTo>
                    <a:pt x="305" y="207"/>
                  </a:lnTo>
                  <a:lnTo>
                    <a:pt x="296" y="191"/>
                  </a:lnTo>
                  <a:lnTo>
                    <a:pt x="265" y="193"/>
                  </a:lnTo>
                  <a:lnTo>
                    <a:pt x="237" y="180"/>
                  </a:lnTo>
                  <a:lnTo>
                    <a:pt x="216" y="158"/>
                  </a:lnTo>
                  <a:lnTo>
                    <a:pt x="192" y="129"/>
                  </a:lnTo>
                  <a:lnTo>
                    <a:pt x="165" y="95"/>
                  </a:lnTo>
                  <a:lnTo>
                    <a:pt x="134" y="60"/>
                  </a:lnTo>
                  <a:lnTo>
                    <a:pt x="93" y="27"/>
                  </a:lnTo>
                  <a:lnTo>
                    <a:pt x="44" y="0"/>
                  </a:lnTo>
                  <a:lnTo>
                    <a:pt x="26" y="27"/>
                  </a:lnTo>
                  <a:lnTo>
                    <a:pt x="13" y="77"/>
                  </a:lnTo>
                  <a:lnTo>
                    <a:pt x="6" y="142"/>
                  </a:lnTo>
                  <a:lnTo>
                    <a:pt x="0" y="213"/>
                  </a:lnTo>
                  <a:lnTo>
                    <a:pt x="0" y="287"/>
                  </a:lnTo>
                  <a:lnTo>
                    <a:pt x="4" y="353"/>
                  </a:lnTo>
                  <a:lnTo>
                    <a:pt x="13" y="407"/>
                  </a:lnTo>
                  <a:lnTo>
                    <a:pt x="24" y="442"/>
                  </a:lnTo>
                  <a:lnTo>
                    <a:pt x="37" y="473"/>
                  </a:lnTo>
                  <a:lnTo>
                    <a:pt x="46" y="513"/>
                  </a:lnTo>
                  <a:lnTo>
                    <a:pt x="50" y="556"/>
                  </a:lnTo>
                  <a:lnTo>
                    <a:pt x="51" y="602"/>
                  </a:lnTo>
                  <a:lnTo>
                    <a:pt x="53" y="647"/>
                  </a:lnTo>
                  <a:lnTo>
                    <a:pt x="57" y="685"/>
                  </a:lnTo>
                  <a:lnTo>
                    <a:pt x="64" y="714"/>
                  </a:lnTo>
                  <a:lnTo>
                    <a:pt x="79" y="731"/>
                  </a:lnTo>
                  <a:lnTo>
                    <a:pt x="75" y="792"/>
                  </a:lnTo>
                  <a:lnTo>
                    <a:pt x="72" y="860"/>
                  </a:lnTo>
                  <a:lnTo>
                    <a:pt x="70" y="920"/>
                  </a:lnTo>
                  <a:lnTo>
                    <a:pt x="68" y="965"/>
                  </a:lnTo>
                  <a:lnTo>
                    <a:pt x="66" y="97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28600" y="1479960"/>
              <a:ext cx="890640" cy="329400"/>
            </a:xfrm>
            <a:custGeom>
              <a:avLst/>
              <a:gdLst/>
              <a:ahLst/>
              <a:rect l="l" t="t" r="r" b="b"/>
              <a:pathLst>
                <a:path w="1568" h="672">
                  <a:moveTo>
                    <a:pt x="476" y="414"/>
                  </a:moveTo>
                  <a:lnTo>
                    <a:pt x="450" y="394"/>
                  </a:lnTo>
                  <a:lnTo>
                    <a:pt x="430" y="354"/>
                  </a:lnTo>
                  <a:lnTo>
                    <a:pt x="412" y="300"/>
                  </a:lnTo>
                  <a:lnTo>
                    <a:pt x="397" y="236"/>
                  </a:lnTo>
                  <a:lnTo>
                    <a:pt x="379" y="169"/>
                  </a:lnTo>
                  <a:lnTo>
                    <a:pt x="356" y="101"/>
                  </a:lnTo>
                  <a:lnTo>
                    <a:pt x="325" y="45"/>
                  </a:lnTo>
                  <a:lnTo>
                    <a:pt x="284" y="0"/>
                  </a:lnTo>
                  <a:lnTo>
                    <a:pt x="323" y="82"/>
                  </a:lnTo>
                  <a:lnTo>
                    <a:pt x="354" y="160"/>
                  </a:lnTo>
                  <a:lnTo>
                    <a:pt x="374" y="236"/>
                  </a:lnTo>
                  <a:lnTo>
                    <a:pt x="385" y="303"/>
                  </a:lnTo>
                  <a:lnTo>
                    <a:pt x="385" y="361"/>
                  </a:lnTo>
                  <a:lnTo>
                    <a:pt x="372" y="403"/>
                  </a:lnTo>
                  <a:lnTo>
                    <a:pt x="348" y="430"/>
                  </a:lnTo>
                  <a:lnTo>
                    <a:pt x="310" y="436"/>
                  </a:lnTo>
                  <a:lnTo>
                    <a:pt x="273" y="419"/>
                  </a:lnTo>
                  <a:lnTo>
                    <a:pt x="252" y="389"/>
                  </a:lnTo>
                  <a:lnTo>
                    <a:pt x="242" y="347"/>
                  </a:lnTo>
                  <a:lnTo>
                    <a:pt x="244" y="300"/>
                  </a:lnTo>
                  <a:lnTo>
                    <a:pt x="252" y="252"/>
                  </a:lnTo>
                  <a:lnTo>
                    <a:pt x="266" y="214"/>
                  </a:lnTo>
                  <a:lnTo>
                    <a:pt x="283" y="187"/>
                  </a:lnTo>
                  <a:lnTo>
                    <a:pt x="299" y="180"/>
                  </a:lnTo>
                  <a:lnTo>
                    <a:pt x="283" y="181"/>
                  </a:lnTo>
                  <a:lnTo>
                    <a:pt x="264" y="196"/>
                  </a:lnTo>
                  <a:lnTo>
                    <a:pt x="246" y="220"/>
                  </a:lnTo>
                  <a:lnTo>
                    <a:pt x="232" y="252"/>
                  </a:lnTo>
                  <a:lnTo>
                    <a:pt x="221" y="294"/>
                  </a:lnTo>
                  <a:lnTo>
                    <a:pt x="217" y="343"/>
                  </a:lnTo>
                  <a:lnTo>
                    <a:pt x="222" y="399"/>
                  </a:lnTo>
                  <a:lnTo>
                    <a:pt x="241" y="461"/>
                  </a:lnTo>
                  <a:lnTo>
                    <a:pt x="241" y="476"/>
                  </a:lnTo>
                  <a:lnTo>
                    <a:pt x="230" y="492"/>
                  </a:lnTo>
                  <a:lnTo>
                    <a:pt x="213" y="507"/>
                  </a:lnTo>
                  <a:lnTo>
                    <a:pt x="193" y="518"/>
                  </a:lnTo>
                  <a:lnTo>
                    <a:pt x="173" y="523"/>
                  </a:lnTo>
                  <a:lnTo>
                    <a:pt x="155" y="523"/>
                  </a:lnTo>
                  <a:lnTo>
                    <a:pt x="144" y="512"/>
                  </a:lnTo>
                  <a:lnTo>
                    <a:pt x="142" y="490"/>
                  </a:lnTo>
                  <a:lnTo>
                    <a:pt x="142" y="458"/>
                  </a:lnTo>
                  <a:lnTo>
                    <a:pt x="135" y="425"/>
                  </a:lnTo>
                  <a:lnTo>
                    <a:pt x="124" y="396"/>
                  </a:lnTo>
                  <a:lnTo>
                    <a:pt x="109" y="372"/>
                  </a:lnTo>
                  <a:lnTo>
                    <a:pt x="93" y="350"/>
                  </a:lnTo>
                  <a:lnTo>
                    <a:pt x="77" y="336"/>
                  </a:lnTo>
                  <a:lnTo>
                    <a:pt x="64" y="327"/>
                  </a:lnTo>
                  <a:lnTo>
                    <a:pt x="53" y="325"/>
                  </a:lnTo>
                  <a:lnTo>
                    <a:pt x="75" y="343"/>
                  </a:lnTo>
                  <a:lnTo>
                    <a:pt x="93" y="374"/>
                  </a:lnTo>
                  <a:lnTo>
                    <a:pt x="106" y="410"/>
                  </a:lnTo>
                  <a:lnTo>
                    <a:pt x="111" y="450"/>
                  </a:lnTo>
                  <a:lnTo>
                    <a:pt x="106" y="488"/>
                  </a:lnTo>
                  <a:lnTo>
                    <a:pt x="86" y="521"/>
                  </a:lnTo>
                  <a:lnTo>
                    <a:pt x="53" y="545"/>
                  </a:lnTo>
                  <a:lnTo>
                    <a:pt x="0" y="554"/>
                  </a:lnTo>
                  <a:lnTo>
                    <a:pt x="0" y="603"/>
                  </a:lnTo>
                  <a:lnTo>
                    <a:pt x="0" y="641"/>
                  </a:lnTo>
                  <a:lnTo>
                    <a:pt x="0" y="665"/>
                  </a:lnTo>
                  <a:lnTo>
                    <a:pt x="0" y="672"/>
                  </a:lnTo>
                  <a:lnTo>
                    <a:pt x="1568" y="672"/>
                  </a:lnTo>
                  <a:lnTo>
                    <a:pt x="1568" y="621"/>
                  </a:lnTo>
                  <a:lnTo>
                    <a:pt x="1568" y="583"/>
                  </a:lnTo>
                  <a:lnTo>
                    <a:pt x="1568" y="561"/>
                  </a:lnTo>
                  <a:lnTo>
                    <a:pt x="1568" y="554"/>
                  </a:lnTo>
                  <a:lnTo>
                    <a:pt x="1539" y="554"/>
                  </a:lnTo>
                  <a:lnTo>
                    <a:pt x="1510" y="554"/>
                  </a:lnTo>
                  <a:lnTo>
                    <a:pt x="1479" y="556"/>
                  </a:lnTo>
                  <a:lnTo>
                    <a:pt x="1451" y="556"/>
                  </a:lnTo>
                  <a:lnTo>
                    <a:pt x="1426" y="552"/>
                  </a:lnTo>
                  <a:lnTo>
                    <a:pt x="1402" y="547"/>
                  </a:lnTo>
                  <a:lnTo>
                    <a:pt x="1386" y="539"/>
                  </a:lnTo>
                  <a:lnTo>
                    <a:pt x="1375" y="525"/>
                  </a:lnTo>
                  <a:lnTo>
                    <a:pt x="1367" y="539"/>
                  </a:lnTo>
                  <a:lnTo>
                    <a:pt x="1358" y="552"/>
                  </a:lnTo>
                  <a:lnTo>
                    <a:pt x="1349" y="565"/>
                  </a:lnTo>
                  <a:lnTo>
                    <a:pt x="1338" y="576"/>
                  </a:lnTo>
                  <a:lnTo>
                    <a:pt x="1326" y="585"/>
                  </a:lnTo>
                  <a:lnTo>
                    <a:pt x="1309" y="590"/>
                  </a:lnTo>
                  <a:lnTo>
                    <a:pt x="1291" y="596"/>
                  </a:lnTo>
                  <a:lnTo>
                    <a:pt x="1271" y="599"/>
                  </a:lnTo>
                  <a:lnTo>
                    <a:pt x="1291" y="583"/>
                  </a:lnTo>
                  <a:lnTo>
                    <a:pt x="1313" y="559"/>
                  </a:lnTo>
                  <a:lnTo>
                    <a:pt x="1333" y="528"/>
                  </a:lnTo>
                  <a:lnTo>
                    <a:pt x="1349" y="494"/>
                  </a:lnTo>
                  <a:lnTo>
                    <a:pt x="1357" y="456"/>
                  </a:lnTo>
                  <a:lnTo>
                    <a:pt x="1355" y="412"/>
                  </a:lnTo>
                  <a:lnTo>
                    <a:pt x="1342" y="369"/>
                  </a:lnTo>
                  <a:lnTo>
                    <a:pt x="1311" y="323"/>
                  </a:lnTo>
                  <a:lnTo>
                    <a:pt x="1324" y="359"/>
                  </a:lnTo>
                  <a:lnTo>
                    <a:pt x="1329" y="396"/>
                  </a:lnTo>
                  <a:lnTo>
                    <a:pt x="1329" y="430"/>
                  </a:lnTo>
                  <a:lnTo>
                    <a:pt x="1322" y="465"/>
                  </a:lnTo>
                  <a:lnTo>
                    <a:pt x="1305" y="496"/>
                  </a:lnTo>
                  <a:lnTo>
                    <a:pt x="1284" y="525"/>
                  </a:lnTo>
                  <a:lnTo>
                    <a:pt x="1253" y="552"/>
                  </a:lnTo>
                  <a:lnTo>
                    <a:pt x="1216" y="574"/>
                  </a:lnTo>
                  <a:lnTo>
                    <a:pt x="1196" y="552"/>
                  </a:lnTo>
                  <a:lnTo>
                    <a:pt x="1178" y="528"/>
                  </a:lnTo>
                  <a:lnTo>
                    <a:pt x="1163" y="505"/>
                  </a:lnTo>
                  <a:lnTo>
                    <a:pt x="1152" y="481"/>
                  </a:lnTo>
                  <a:lnTo>
                    <a:pt x="1145" y="458"/>
                  </a:lnTo>
                  <a:lnTo>
                    <a:pt x="1141" y="432"/>
                  </a:lnTo>
                  <a:lnTo>
                    <a:pt x="1145" y="407"/>
                  </a:lnTo>
                  <a:lnTo>
                    <a:pt x="1152" y="381"/>
                  </a:lnTo>
                  <a:lnTo>
                    <a:pt x="1140" y="399"/>
                  </a:lnTo>
                  <a:lnTo>
                    <a:pt x="1129" y="419"/>
                  </a:lnTo>
                  <a:lnTo>
                    <a:pt x="1119" y="438"/>
                  </a:lnTo>
                  <a:lnTo>
                    <a:pt x="1112" y="456"/>
                  </a:lnTo>
                  <a:lnTo>
                    <a:pt x="1107" y="474"/>
                  </a:lnTo>
                  <a:lnTo>
                    <a:pt x="1103" y="492"/>
                  </a:lnTo>
                  <a:lnTo>
                    <a:pt x="1103" y="508"/>
                  </a:lnTo>
                  <a:lnTo>
                    <a:pt x="1103" y="525"/>
                  </a:lnTo>
                  <a:lnTo>
                    <a:pt x="1098" y="498"/>
                  </a:lnTo>
                  <a:lnTo>
                    <a:pt x="1096" y="463"/>
                  </a:lnTo>
                  <a:lnTo>
                    <a:pt x="1098" y="421"/>
                  </a:lnTo>
                  <a:lnTo>
                    <a:pt x="1107" y="378"/>
                  </a:lnTo>
                  <a:lnTo>
                    <a:pt x="1123" y="334"/>
                  </a:lnTo>
                  <a:lnTo>
                    <a:pt x="1147" y="292"/>
                  </a:lnTo>
                  <a:lnTo>
                    <a:pt x="1180" y="256"/>
                  </a:lnTo>
                  <a:lnTo>
                    <a:pt x="1222" y="225"/>
                  </a:lnTo>
                  <a:lnTo>
                    <a:pt x="1189" y="240"/>
                  </a:lnTo>
                  <a:lnTo>
                    <a:pt x="1156" y="260"/>
                  </a:lnTo>
                  <a:lnTo>
                    <a:pt x="1123" y="283"/>
                  </a:lnTo>
                  <a:lnTo>
                    <a:pt x="1090" y="309"/>
                  </a:lnTo>
                  <a:lnTo>
                    <a:pt x="1061" y="336"/>
                  </a:lnTo>
                  <a:lnTo>
                    <a:pt x="1037" y="361"/>
                  </a:lnTo>
                  <a:lnTo>
                    <a:pt x="1017" y="383"/>
                  </a:lnTo>
                  <a:lnTo>
                    <a:pt x="1005" y="401"/>
                  </a:lnTo>
                  <a:lnTo>
                    <a:pt x="1003" y="359"/>
                  </a:lnTo>
                  <a:lnTo>
                    <a:pt x="992" y="330"/>
                  </a:lnTo>
                  <a:lnTo>
                    <a:pt x="981" y="310"/>
                  </a:lnTo>
                  <a:lnTo>
                    <a:pt x="974" y="294"/>
                  </a:lnTo>
                  <a:lnTo>
                    <a:pt x="972" y="312"/>
                  </a:lnTo>
                  <a:lnTo>
                    <a:pt x="963" y="338"/>
                  </a:lnTo>
                  <a:lnTo>
                    <a:pt x="950" y="365"/>
                  </a:lnTo>
                  <a:lnTo>
                    <a:pt x="934" y="396"/>
                  </a:lnTo>
                  <a:lnTo>
                    <a:pt x="915" y="425"/>
                  </a:lnTo>
                  <a:lnTo>
                    <a:pt x="899" y="450"/>
                  </a:lnTo>
                  <a:lnTo>
                    <a:pt x="884" y="472"/>
                  </a:lnTo>
                  <a:lnTo>
                    <a:pt x="873" y="485"/>
                  </a:lnTo>
                  <a:lnTo>
                    <a:pt x="866" y="490"/>
                  </a:lnTo>
                  <a:lnTo>
                    <a:pt x="884" y="596"/>
                  </a:lnTo>
                  <a:lnTo>
                    <a:pt x="877" y="601"/>
                  </a:lnTo>
                  <a:lnTo>
                    <a:pt x="870" y="607"/>
                  </a:lnTo>
                  <a:lnTo>
                    <a:pt x="864" y="610"/>
                  </a:lnTo>
                  <a:lnTo>
                    <a:pt x="859" y="612"/>
                  </a:lnTo>
                  <a:lnTo>
                    <a:pt x="851" y="612"/>
                  </a:lnTo>
                  <a:lnTo>
                    <a:pt x="844" y="610"/>
                  </a:lnTo>
                  <a:lnTo>
                    <a:pt x="835" y="608"/>
                  </a:lnTo>
                  <a:lnTo>
                    <a:pt x="824" y="603"/>
                  </a:lnTo>
                  <a:lnTo>
                    <a:pt x="815" y="608"/>
                  </a:lnTo>
                  <a:lnTo>
                    <a:pt x="806" y="612"/>
                  </a:lnTo>
                  <a:lnTo>
                    <a:pt x="797" y="616"/>
                  </a:lnTo>
                  <a:lnTo>
                    <a:pt x="791" y="617"/>
                  </a:lnTo>
                  <a:lnTo>
                    <a:pt x="784" y="619"/>
                  </a:lnTo>
                  <a:lnTo>
                    <a:pt x="779" y="617"/>
                  </a:lnTo>
                  <a:lnTo>
                    <a:pt x="771" y="616"/>
                  </a:lnTo>
                  <a:lnTo>
                    <a:pt x="762" y="612"/>
                  </a:lnTo>
                  <a:lnTo>
                    <a:pt x="751" y="605"/>
                  </a:lnTo>
                  <a:lnTo>
                    <a:pt x="742" y="607"/>
                  </a:lnTo>
                  <a:lnTo>
                    <a:pt x="733" y="608"/>
                  </a:lnTo>
                  <a:lnTo>
                    <a:pt x="724" y="610"/>
                  </a:lnTo>
                  <a:lnTo>
                    <a:pt x="717" y="612"/>
                  </a:lnTo>
                  <a:lnTo>
                    <a:pt x="711" y="610"/>
                  </a:lnTo>
                  <a:lnTo>
                    <a:pt x="706" y="608"/>
                  </a:lnTo>
                  <a:lnTo>
                    <a:pt x="698" y="605"/>
                  </a:lnTo>
                  <a:lnTo>
                    <a:pt x="689" y="599"/>
                  </a:lnTo>
                  <a:lnTo>
                    <a:pt x="680" y="592"/>
                  </a:lnTo>
                  <a:lnTo>
                    <a:pt x="642" y="476"/>
                  </a:lnTo>
                  <a:lnTo>
                    <a:pt x="638" y="476"/>
                  </a:lnTo>
                  <a:lnTo>
                    <a:pt x="634" y="485"/>
                  </a:lnTo>
                  <a:lnTo>
                    <a:pt x="622" y="490"/>
                  </a:lnTo>
                  <a:lnTo>
                    <a:pt x="600" y="494"/>
                  </a:lnTo>
                  <a:lnTo>
                    <a:pt x="576" y="496"/>
                  </a:lnTo>
                  <a:lnTo>
                    <a:pt x="549" y="498"/>
                  </a:lnTo>
                  <a:lnTo>
                    <a:pt x="523" y="496"/>
                  </a:lnTo>
                  <a:lnTo>
                    <a:pt x="501" y="494"/>
                  </a:lnTo>
                  <a:lnTo>
                    <a:pt x="485" y="492"/>
                  </a:lnTo>
                  <a:lnTo>
                    <a:pt x="470" y="481"/>
                  </a:lnTo>
                  <a:lnTo>
                    <a:pt x="469" y="461"/>
                  </a:lnTo>
                  <a:lnTo>
                    <a:pt x="472" y="439"/>
                  </a:lnTo>
                  <a:lnTo>
                    <a:pt x="474" y="419"/>
                  </a:lnTo>
                  <a:lnTo>
                    <a:pt x="476" y="4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219320" y="1752480"/>
            <a:ext cx="601956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1066680"/>
            <a:ext cx="890640" cy="742680"/>
            <a:chOff x="228600" y="1066680"/>
            <a:chExt cx="890640" cy="742680"/>
          </a:xfrm>
        </p:grpSpPr>
        <p:sp>
          <p:nvSpPr>
            <p:cNvPr id="6" name=""/>
            <p:cNvSpPr/>
            <p:nvPr/>
          </p:nvSpPr>
          <p:spPr>
            <a:xfrm>
              <a:off x="410400" y="1066680"/>
              <a:ext cx="660960" cy="468360"/>
            </a:xfrm>
            <a:custGeom>
              <a:avLst/>
              <a:gdLst/>
              <a:ahLst/>
              <a:rect l="l" t="t" r="r" b="b"/>
              <a:pathLst>
                <a:path w="1165" h="955">
                  <a:moveTo>
                    <a:pt x="671" y="875"/>
                  </a:moveTo>
                  <a:lnTo>
                    <a:pt x="689" y="890"/>
                  </a:lnTo>
                  <a:lnTo>
                    <a:pt x="709" y="905"/>
                  </a:lnTo>
                  <a:lnTo>
                    <a:pt x="731" y="919"/>
                  </a:lnTo>
                  <a:lnTo>
                    <a:pt x="755" y="930"/>
                  </a:lnTo>
                  <a:lnTo>
                    <a:pt x="780" y="941"/>
                  </a:lnTo>
                  <a:lnTo>
                    <a:pt x="804" y="948"/>
                  </a:lnTo>
                  <a:lnTo>
                    <a:pt x="830" y="954"/>
                  </a:lnTo>
                  <a:lnTo>
                    <a:pt x="855" y="955"/>
                  </a:lnTo>
                  <a:lnTo>
                    <a:pt x="881" y="955"/>
                  </a:lnTo>
                  <a:lnTo>
                    <a:pt x="904" y="952"/>
                  </a:lnTo>
                  <a:lnTo>
                    <a:pt x="926" y="944"/>
                  </a:lnTo>
                  <a:lnTo>
                    <a:pt x="946" y="934"/>
                  </a:lnTo>
                  <a:lnTo>
                    <a:pt x="963" y="917"/>
                  </a:lnTo>
                  <a:lnTo>
                    <a:pt x="977" y="897"/>
                  </a:lnTo>
                  <a:lnTo>
                    <a:pt x="988" y="874"/>
                  </a:lnTo>
                  <a:lnTo>
                    <a:pt x="996" y="843"/>
                  </a:lnTo>
                  <a:lnTo>
                    <a:pt x="999" y="801"/>
                  </a:lnTo>
                  <a:lnTo>
                    <a:pt x="994" y="772"/>
                  </a:lnTo>
                  <a:lnTo>
                    <a:pt x="985" y="752"/>
                  </a:lnTo>
                  <a:lnTo>
                    <a:pt x="970" y="741"/>
                  </a:lnTo>
                  <a:lnTo>
                    <a:pt x="955" y="737"/>
                  </a:lnTo>
                  <a:lnTo>
                    <a:pt x="943" y="737"/>
                  </a:lnTo>
                  <a:lnTo>
                    <a:pt x="932" y="743"/>
                  </a:lnTo>
                  <a:lnTo>
                    <a:pt x="926" y="750"/>
                  </a:lnTo>
                  <a:lnTo>
                    <a:pt x="923" y="763"/>
                  </a:lnTo>
                  <a:lnTo>
                    <a:pt x="921" y="777"/>
                  </a:lnTo>
                  <a:lnTo>
                    <a:pt x="926" y="796"/>
                  </a:lnTo>
                  <a:lnTo>
                    <a:pt x="943" y="817"/>
                  </a:lnTo>
                  <a:lnTo>
                    <a:pt x="946" y="830"/>
                  </a:lnTo>
                  <a:lnTo>
                    <a:pt x="945" y="846"/>
                  </a:lnTo>
                  <a:lnTo>
                    <a:pt x="939" y="865"/>
                  </a:lnTo>
                  <a:lnTo>
                    <a:pt x="928" y="881"/>
                  </a:lnTo>
                  <a:lnTo>
                    <a:pt x="912" y="895"/>
                  </a:lnTo>
                  <a:lnTo>
                    <a:pt x="892" y="905"/>
                  </a:lnTo>
                  <a:lnTo>
                    <a:pt x="870" y="906"/>
                  </a:lnTo>
                  <a:lnTo>
                    <a:pt x="842" y="895"/>
                  </a:lnTo>
                  <a:lnTo>
                    <a:pt x="817" y="877"/>
                  </a:lnTo>
                  <a:lnTo>
                    <a:pt x="793" y="857"/>
                  </a:lnTo>
                  <a:lnTo>
                    <a:pt x="771" y="835"/>
                  </a:lnTo>
                  <a:lnTo>
                    <a:pt x="757" y="808"/>
                  </a:lnTo>
                  <a:lnTo>
                    <a:pt x="746" y="776"/>
                  </a:lnTo>
                  <a:lnTo>
                    <a:pt x="742" y="739"/>
                  </a:lnTo>
                  <a:lnTo>
                    <a:pt x="744" y="696"/>
                  </a:lnTo>
                  <a:lnTo>
                    <a:pt x="755" y="647"/>
                  </a:lnTo>
                  <a:lnTo>
                    <a:pt x="762" y="686"/>
                  </a:lnTo>
                  <a:lnTo>
                    <a:pt x="769" y="726"/>
                  </a:lnTo>
                  <a:lnTo>
                    <a:pt x="777" y="768"/>
                  </a:lnTo>
                  <a:lnTo>
                    <a:pt x="784" y="810"/>
                  </a:lnTo>
                  <a:lnTo>
                    <a:pt x="799" y="772"/>
                  </a:lnTo>
                  <a:lnTo>
                    <a:pt x="811" y="717"/>
                  </a:lnTo>
                  <a:lnTo>
                    <a:pt x="819" y="652"/>
                  </a:lnTo>
                  <a:lnTo>
                    <a:pt x="819" y="581"/>
                  </a:lnTo>
                  <a:lnTo>
                    <a:pt x="835" y="572"/>
                  </a:lnTo>
                  <a:lnTo>
                    <a:pt x="837" y="554"/>
                  </a:lnTo>
                  <a:lnTo>
                    <a:pt x="833" y="525"/>
                  </a:lnTo>
                  <a:lnTo>
                    <a:pt x="828" y="474"/>
                  </a:lnTo>
                  <a:lnTo>
                    <a:pt x="822" y="416"/>
                  </a:lnTo>
                  <a:lnTo>
                    <a:pt x="813" y="370"/>
                  </a:lnTo>
                  <a:lnTo>
                    <a:pt x="802" y="338"/>
                  </a:lnTo>
                  <a:lnTo>
                    <a:pt x="793" y="314"/>
                  </a:lnTo>
                  <a:lnTo>
                    <a:pt x="786" y="298"/>
                  </a:lnTo>
                  <a:lnTo>
                    <a:pt x="786" y="285"/>
                  </a:lnTo>
                  <a:lnTo>
                    <a:pt x="790" y="272"/>
                  </a:lnTo>
                  <a:lnTo>
                    <a:pt x="804" y="258"/>
                  </a:lnTo>
                  <a:lnTo>
                    <a:pt x="824" y="249"/>
                  </a:lnTo>
                  <a:lnTo>
                    <a:pt x="837" y="258"/>
                  </a:lnTo>
                  <a:lnTo>
                    <a:pt x="837" y="276"/>
                  </a:lnTo>
                  <a:lnTo>
                    <a:pt x="824" y="301"/>
                  </a:lnTo>
                  <a:lnTo>
                    <a:pt x="822" y="316"/>
                  </a:lnTo>
                  <a:lnTo>
                    <a:pt x="828" y="343"/>
                  </a:lnTo>
                  <a:lnTo>
                    <a:pt x="839" y="379"/>
                  </a:lnTo>
                  <a:lnTo>
                    <a:pt x="846" y="428"/>
                  </a:lnTo>
                  <a:lnTo>
                    <a:pt x="850" y="447"/>
                  </a:lnTo>
                  <a:lnTo>
                    <a:pt x="857" y="452"/>
                  </a:lnTo>
                  <a:lnTo>
                    <a:pt x="866" y="448"/>
                  </a:lnTo>
                  <a:lnTo>
                    <a:pt x="877" y="436"/>
                  </a:lnTo>
                  <a:lnTo>
                    <a:pt x="890" y="421"/>
                  </a:lnTo>
                  <a:lnTo>
                    <a:pt x="903" y="403"/>
                  </a:lnTo>
                  <a:lnTo>
                    <a:pt x="915" y="387"/>
                  </a:lnTo>
                  <a:lnTo>
                    <a:pt x="926" y="376"/>
                  </a:lnTo>
                  <a:lnTo>
                    <a:pt x="943" y="363"/>
                  </a:lnTo>
                  <a:lnTo>
                    <a:pt x="970" y="345"/>
                  </a:lnTo>
                  <a:lnTo>
                    <a:pt x="1003" y="325"/>
                  </a:lnTo>
                  <a:lnTo>
                    <a:pt x="1041" y="303"/>
                  </a:lnTo>
                  <a:lnTo>
                    <a:pt x="1078" y="283"/>
                  </a:lnTo>
                  <a:lnTo>
                    <a:pt x="1112" y="265"/>
                  </a:lnTo>
                  <a:lnTo>
                    <a:pt x="1143" y="252"/>
                  </a:lnTo>
                  <a:lnTo>
                    <a:pt x="1165" y="247"/>
                  </a:lnTo>
                  <a:lnTo>
                    <a:pt x="1158" y="236"/>
                  </a:lnTo>
                  <a:lnTo>
                    <a:pt x="1151" y="221"/>
                  </a:lnTo>
                  <a:lnTo>
                    <a:pt x="1141" y="203"/>
                  </a:lnTo>
                  <a:lnTo>
                    <a:pt x="1132" y="183"/>
                  </a:lnTo>
                  <a:lnTo>
                    <a:pt x="1121" y="161"/>
                  </a:lnTo>
                  <a:lnTo>
                    <a:pt x="1110" y="138"/>
                  </a:lnTo>
                  <a:lnTo>
                    <a:pt x="1096" y="116"/>
                  </a:lnTo>
                  <a:lnTo>
                    <a:pt x="1079" y="94"/>
                  </a:lnTo>
                  <a:lnTo>
                    <a:pt x="1063" y="72"/>
                  </a:lnTo>
                  <a:lnTo>
                    <a:pt x="1043" y="54"/>
                  </a:lnTo>
                  <a:lnTo>
                    <a:pt x="1021" y="38"/>
                  </a:lnTo>
                  <a:lnTo>
                    <a:pt x="997" y="25"/>
                  </a:lnTo>
                  <a:lnTo>
                    <a:pt x="970" y="18"/>
                  </a:lnTo>
                  <a:lnTo>
                    <a:pt x="941" y="14"/>
                  </a:lnTo>
                  <a:lnTo>
                    <a:pt x="908" y="16"/>
                  </a:lnTo>
                  <a:lnTo>
                    <a:pt x="873" y="25"/>
                  </a:lnTo>
                  <a:lnTo>
                    <a:pt x="813" y="45"/>
                  </a:lnTo>
                  <a:lnTo>
                    <a:pt x="780" y="56"/>
                  </a:lnTo>
                  <a:lnTo>
                    <a:pt x="768" y="60"/>
                  </a:lnTo>
                  <a:lnTo>
                    <a:pt x="769" y="60"/>
                  </a:lnTo>
                  <a:lnTo>
                    <a:pt x="777" y="58"/>
                  </a:lnTo>
                  <a:lnTo>
                    <a:pt x="784" y="54"/>
                  </a:lnTo>
                  <a:lnTo>
                    <a:pt x="788" y="51"/>
                  </a:lnTo>
                  <a:lnTo>
                    <a:pt x="779" y="51"/>
                  </a:lnTo>
                  <a:lnTo>
                    <a:pt x="797" y="60"/>
                  </a:lnTo>
                  <a:lnTo>
                    <a:pt x="811" y="71"/>
                  </a:lnTo>
                  <a:lnTo>
                    <a:pt x="826" y="83"/>
                  </a:lnTo>
                  <a:lnTo>
                    <a:pt x="837" y="96"/>
                  </a:lnTo>
                  <a:lnTo>
                    <a:pt x="846" y="109"/>
                  </a:lnTo>
                  <a:lnTo>
                    <a:pt x="850" y="121"/>
                  </a:lnTo>
                  <a:lnTo>
                    <a:pt x="852" y="136"/>
                  </a:lnTo>
                  <a:lnTo>
                    <a:pt x="848" y="149"/>
                  </a:lnTo>
                  <a:lnTo>
                    <a:pt x="828" y="120"/>
                  </a:lnTo>
                  <a:lnTo>
                    <a:pt x="808" y="100"/>
                  </a:lnTo>
                  <a:lnTo>
                    <a:pt x="790" y="85"/>
                  </a:lnTo>
                  <a:lnTo>
                    <a:pt x="773" y="78"/>
                  </a:lnTo>
                  <a:lnTo>
                    <a:pt x="755" y="74"/>
                  </a:lnTo>
                  <a:lnTo>
                    <a:pt x="735" y="74"/>
                  </a:lnTo>
                  <a:lnTo>
                    <a:pt x="713" y="74"/>
                  </a:lnTo>
                  <a:lnTo>
                    <a:pt x="689" y="74"/>
                  </a:lnTo>
                  <a:lnTo>
                    <a:pt x="662" y="72"/>
                  </a:lnTo>
                  <a:lnTo>
                    <a:pt x="631" y="69"/>
                  </a:lnTo>
                  <a:lnTo>
                    <a:pt x="598" y="63"/>
                  </a:lnTo>
                  <a:lnTo>
                    <a:pt x="567" y="63"/>
                  </a:lnTo>
                  <a:lnTo>
                    <a:pt x="536" y="65"/>
                  </a:lnTo>
                  <a:lnTo>
                    <a:pt x="511" y="76"/>
                  </a:lnTo>
                  <a:lnTo>
                    <a:pt x="492" y="96"/>
                  </a:lnTo>
                  <a:lnTo>
                    <a:pt x="480" y="129"/>
                  </a:lnTo>
                  <a:lnTo>
                    <a:pt x="465" y="103"/>
                  </a:lnTo>
                  <a:lnTo>
                    <a:pt x="463" y="78"/>
                  </a:lnTo>
                  <a:lnTo>
                    <a:pt x="476" y="58"/>
                  </a:lnTo>
                  <a:lnTo>
                    <a:pt x="505" y="45"/>
                  </a:lnTo>
                  <a:lnTo>
                    <a:pt x="458" y="29"/>
                  </a:lnTo>
                  <a:lnTo>
                    <a:pt x="414" y="16"/>
                  </a:lnTo>
                  <a:lnTo>
                    <a:pt x="376" y="7"/>
                  </a:lnTo>
                  <a:lnTo>
                    <a:pt x="343" y="2"/>
                  </a:lnTo>
                  <a:lnTo>
                    <a:pt x="312" y="0"/>
                  </a:lnTo>
                  <a:lnTo>
                    <a:pt x="283" y="2"/>
                  </a:lnTo>
                  <a:lnTo>
                    <a:pt x="257" y="5"/>
                  </a:lnTo>
                  <a:lnTo>
                    <a:pt x="232" y="12"/>
                  </a:lnTo>
                  <a:lnTo>
                    <a:pt x="208" y="23"/>
                  </a:lnTo>
                  <a:lnTo>
                    <a:pt x="184" y="36"/>
                  </a:lnTo>
                  <a:lnTo>
                    <a:pt x="159" y="52"/>
                  </a:lnTo>
                  <a:lnTo>
                    <a:pt x="133" y="71"/>
                  </a:lnTo>
                  <a:lnTo>
                    <a:pt x="104" y="92"/>
                  </a:lnTo>
                  <a:lnTo>
                    <a:pt x="73" y="116"/>
                  </a:lnTo>
                  <a:lnTo>
                    <a:pt x="38" y="141"/>
                  </a:lnTo>
                  <a:lnTo>
                    <a:pt x="0" y="169"/>
                  </a:lnTo>
                  <a:lnTo>
                    <a:pt x="31" y="194"/>
                  </a:lnTo>
                  <a:lnTo>
                    <a:pt x="66" y="214"/>
                  </a:lnTo>
                  <a:lnTo>
                    <a:pt x="100" y="232"/>
                  </a:lnTo>
                  <a:lnTo>
                    <a:pt x="137" y="250"/>
                  </a:lnTo>
                  <a:lnTo>
                    <a:pt x="173" y="272"/>
                  </a:lnTo>
                  <a:lnTo>
                    <a:pt x="212" y="299"/>
                  </a:lnTo>
                  <a:lnTo>
                    <a:pt x="250" y="334"/>
                  </a:lnTo>
                  <a:lnTo>
                    <a:pt x="286" y="379"/>
                  </a:lnTo>
                  <a:lnTo>
                    <a:pt x="312" y="412"/>
                  </a:lnTo>
                  <a:lnTo>
                    <a:pt x="334" y="432"/>
                  </a:lnTo>
                  <a:lnTo>
                    <a:pt x="352" y="441"/>
                  </a:lnTo>
                  <a:lnTo>
                    <a:pt x="365" y="443"/>
                  </a:lnTo>
                  <a:lnTo>
                    <a:pt x="374" y="439"/>
                  </a:lnTo>
                  <a:lnTo>
                    <a:pt x="379" y="434"/>
                  </a:lnTo>
                  <a:lnTo>
                    <a:pt x="383" y="428"/>
                  </a:lnTo>
                  <a:lnTo>
                    <a:pt x="385" y="425"/>
                  </a:lnTo>
                  <a:lnTo>
                    <a:pt x="390" y="418"/>
                  </a:lnTo>
                  <a:lnTo>
                    <a:pt x="396" y="427"/>
                  </a:lnTo>
                  <a:lnTo>
                    <a:pt x="403" y="447"/>
                  </a:lnTo>
                  <a:lnTo>
                    <a:pt x="419" y="463"/>
                  </a:lnTo>
                  <a:lnTo>
                    <a:pt x="429" y="472"/>
                  </a:lnTo>
                  <a:lnTo>
                    <a:pt x="439" y="483"/>
                  </a:lnTo>
                  <a:lnTo>
                    <a:pt x="452" y="494"/>
                  </a:lnTo>
                  <a:lnTo>
                    <a:pt x="463" y="503"/>
                  </a:lnTo>
                  <a:lnTo>
                    <a:pt x="474" y="503"/>
                  </a:lnTo>
                  <a:lnTo>
                    <a:pt x="481" y="496"/>
                  </a:lnTo>
                  <a:lnTo>
                    <a:pt x="485" y="472"/>
                  </a:lnTo>
                  <a:lnTo>
                    <a:pt x="485" y="434"/>
                  </a:lnTo>
                  <a:lnTo>
                    <a:pt x="487" y="390"/>
                  </a:lnTo>
                  <a:lnTo>
                    <a:pt x="498" y="359"/>
                  </a:lnTo>
                  <a:lnTo>
                    <a:pt x="511" y="339"/>
                  </a:lnTo>
                  <a:lnTo>
                    <a:pt x="520" y="327"/>
                  </a:lnTo>
                  <a:lnTo>
                    <a:pt x="518" y="319"/>
                  </a:lnTo>
                  <a:lnTo>
                    <a:pt x="511" y="310"/>
                  </a:lnTo>
                  <a:lnTo>
                    <a:pt x="500" y="299"/>
                  </a:lnTo>
                  <a:lnTo>
                    <a:pt x="491" y="287"/>
                  </a:lnTo>
                  <a:lnTo>
                    <a:pt x="481" y="278"/>
                  </a:lnTo>
                  <a:lnTo>
                    <a:pt x="478" y="269"/>
                  </a:lnTo>
                  <a:lnTo>
                    <a:pt x="481" y="261"/>
                  </a:lnTo>
                  <a:lnTo>
                    <a:pt x="494" y="258"/>
                  </a:lnTo>
                  <a:lnTo>
                    <a:pt x="511" y="258"/>
                  </a:lnTo>
                  <a:lnTo>
                    <a:pt x="527" y="265"/>
                  </a:lnTo>
                  <a:lnTo>
                    <a:pt x="540" y="274"/>
                  </a:lnTo>
                  <a:lnTo>
                    <a:pt x="549" y="287"/>
                  </a:lnTo>
                  <a:lnTo>
                    <a:pt x="554" y="301"/>
                  </a:lnTo>
                  <a:lnTo>
                    <a:pt x="556" y="316"/>
                  </a:lnTo>
                  <a:lnTo>
                    <a:pt x="551" y="330"/>
                  </a:lnTo>
                  <a:lnTo>
                    <a:pt x="542" y="345"/>
                  </a:lnTo>
                  <a:lnTo>
                    <a:pt x="523" y="389"/>
                  </a:lnTo>
                  <a:lnTo>
                    <a:pt x="514" y="454"/>
                  </a:lnTo>
                  <a:lnTo>
                    <a:pt x="514" y="518"/>
                  </a:lnTo>
                  <a:lnTo>
                    <a:pt x="520" y="557"/>
                  </a:lnTo>
                  <a:lnTo>
                    <a:pt x="529" y="570"/>
                  </a:lnTo>
                  <a:lnTo>
                    <a:pt x="540" y="572"/>
                  </a:lnTo>
                  <a:lnTo>
                    <a:pt x="553" y="568"/>
                  </a:lnTo>
                  <a:lnTo>
                    <a:pt x="567" y="565"/>
                  </a:lnTo>
                  <a:lnTo>
                    <a:pt x="580" y="567"/>
                  </a:lnTo>
                  <a:lnTo>
                    <a:pt x="591" y="577"/>
                  </a:lnTo>
                  <a:lnTo>
                    <a:pt x="598" y="603"/>
                  </a:lnTo>
                  <a:lnTo>
                    <a:pt x="602" y="650"/>
                  </a:lnTo>
                  <a:lnTo>
                    <a:pt x="602" y="692"/>
                  </a:lnTo>
                  <a:lnTo>
                    <a:pt x="605" y="739"/>
                  </a:lnTo>
                  <a:lnTo>
                    <a:pt x="611" y="785"/>
                  </a:lnTo>
                  <a:lnTo>
                    <a:pt x="625" y="817"/>
                  </a:lnTo>
                  <a:lnTo>
                    <a:pt x="636" y="834"/>
                  </a:lnTo>
                  <a:lnTo>
                    <a:pt x="647" y="850"/>
                  </a:lnTo>
                  <a:lnTo>
                    <a:pt x="660" y="866"/>
                  </a:lnTo>
                  <a:lnTo>
                    <a:pt x="671" y="87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0440" y="1210680"/>
              <a:ext cx="330480" cy="567720"/>
            </a:xfrm>
            <a:custGeom>
              <a:avLst/>
              <a:gdLst/>
              <a:ahLst/>
              <a:rect l="l" t="t" r="r" b="b"/>
              <a:pathLst>
                <a:path w="582" h="1159">
                  <a:moveTo>
                    <a:pt x="66" y="970"/>
                  </a:moveTo>
                  <a:lnTo>
                    <a:pt x="64" y="990"/>
                  </a:lnTo>
                  <a:lnTo>
                    <a:pt x="61" y="1012"/>
                  </a:lnTo>
                  <a:lnTo>
                    <a:pt x="62" y="1032"/>
                  </a:lnTo>
                  <a:lnTo>
                    <a:pt x="77" y="1043"/>
                  </a:lnTo>
                  <a:lnTo>
                    <a:pt x="93" y="1045"/>
                  </a:lnTo>
                  <a:lnTo>
                    <a:pt x="115" y="1047"/>
                  </a:lnTo>
                  <a:lnTo>
                    <a:pt x="141" y="1049"/>
                  </a:lnTo>
                  <a:lnTo>
                    <a:pt x="168" y="1047"/>
                  </a:lnTo>
                  <a:lnTo>
                    <a:pt x="192" y="1045"/>
                  </a:lnTo>
                  <a:lnTo>
                    <a:pt x="214" y="1041"/>
                  </a:lnTo>
                  <a:lnTo>
                    <a:pt x="226" y="1036"/>
                  </a:lnTo>
                  <a:lnTo>
                    <a:pt x="230" y="1027"/>
                  </a:lnTo>
                  <a:lnTo>
                    <a:pt x="225" y="980"/>
                  </a:lnTo>
                  <a:lnTo>
                    <a:pt x="214" y="914"/>
                  </a:lnTo>
                  <a:lnTo>
                    <a:pt x="203" y="847"/>
                  </a:lnTo>
                  <a:lnTo>
                    <a:pt x="194" y="794"/>
                  </a:lnTo>
                  <a:lnTo>
                    <a:pt x="192" y="729"/>
                  </a:lnTo>
                  <a:lnTo>
                    <a:pt x="183" y="658"/>
                  </a:lnTo>
                  <a:lnTo>
                    <a:pt x="175" y="585"/>
                  </a:lnTo>
                  <a:lnTo>
                    <a:pt x="174" y="522"/>
                  </a:lnTo>
                  <a:lnTo>
                    <a:pt x="185" y="560"/>
                  </a:lnTo>
                  <a:lnTo>
                    <a:pt x="195" y="598"/>
                  </a:lnTo>
                  <a:lnTo>
                    <a:pt x="205" y="634"/>
                  </a:lnTo>
                  <a:lnTo>
                    <a:pt x="216" y="667"/>
                  </a:lnTo>
                  <a:lnTo>
                    <a:pt x="226" y="700"/>
                  </a:lnTo>
                  <a:lnTo>
                    <a:pt x="236" y="727"/>
                  </a:lnTo>
                  <a:lnTo>
                    <a:pt x="247" y="752"/>
                  </a:lnTo>
                  <a:lnTo>
                    <a:pt x="257" y="771"/>
                  </a:lnTo>
                  <a:lnTo>
                    <a:pt x="250" y="851"/>
                  </a:lnTo>
                  <a:lnTo>
                    <a:pt x="241" y="923"/>
                  </a:lnTo>
                  <a:lnTo>
                    <a:pt x="234" y="981"/>
                  </a:lnTo>
                  <a:lnTo>
                    <a:pt x="232" y="1027"/>
                  </a:lnTo>
                  <a:lnTo>
                    <a:pt x="272" y="1141"/>
                  </a:lnTo>
                  <a:lnTo>
                    <a:pt x="285" y="1110"/>
                  </a:lnTo>
                  <a:lnTo>
                    <a:pt x="296" y="1094"/>
                  </a:lnTo>
                  <a:lnTo>
                    <a:pt x="307" y="1087"/>
                  </a:lnTo>
                  <a:lnTo>
                    <a:pt x="316" y="1090"/>
                  </a:lnTo>
                  <a:lnTo>
                    <a:pt x="323" y="1101"/>
                  </a:lnTo>
                  <a:lnTo>
                    <a:pt x="330" y="1118"/>
                  </a:lnTo>
                  <a:lnTo>
                    <a:pt x="334" y="1138"/>
                  </a:lnTo>
                  <a:lnTo>
                    <a:pt x="334" y="1158"/>
                  </a:lnTo>
                  <a:lnTo>
                    <a:pt x="343" y="1156"/>
                  </a:lnTo>
                  <a:lnTo>
                    <a:pt x="349" y="1123"/>
                  </a:lnTo>
                  <a:lnTo>
                    <a:pt x="358" y="1103"/>
                  </a:lnTo>
                  <a:lnTo>
                    <a:pt x="367" y="1096"/>
                  </a:lnTo>
                  <a:lnTo>
                    <a:pt x="378" y="1098"/>
                  </a:lnTo>
                  <a:lnTo>
                    <a:pt x="387" y="1107"/>
                  </a:lnTo>
                  <a:lnTo>
                    <a:pt x="394" y="1121"/>
                  </a:lnTo>
                  <a:lnTo>
                    <a:pt x="402" y="1139"/>
                  </a:lnTo>
                  <a:lnTo>
                    <a:pt x="405" y="1159"/>
                  </a:lnTo>
                  <a:lnTo>
                    <a:pt x="416" y="1154"/>
                  </a:lnTo>
                  <a:lnTo>
                    <a:pt x="416" y="1121"/>
                  </a:lnTo>
                  <a:lnTo>
                    <a:pt x="420" y="1101"/>
                  </a:lnTo>
                  <a:lnTo>
                    <a:pt x="427" y="1090"/>
                  </a:lnTo>
                  <a:lnTo>
                    <a:pt x="438" y="1090"/>
                  </a:lnTo>
                  <a:lnTo>
                    <a:pt x="449" y="1098"/>
                  </a:lnTo>
                  <a:lnTo>
                    <a:pt x="458" y="1112"/>
                  </a:lnTo>
                  <a:lnTo>
                    <a:pt x="469" y="1129"/>
                  </a:lnTo>
                  <a:lnTo>
                    <a:pt x="476" y="1147"/>
                  </a:lnTo>
                  <a:lnTo>
                    <a:pt x="458" y="1041"/>
                  </a:lnTo>
                  <a:lnTo>
                    <a:pt x="445" y="1003"/>
                  </a:lnTo>
                  <a:lnTo>
                    <a:pt x="434" y="961"/>
                  </a:lnTo>
                  <a:lnTo>
                    <a:pt x="425" y="900"/>
                  </a:lnTo>
                  <a:lnTo>
                    <a:pt x="420" y="798"/>
                  </a:lnTo>
                  <a:lnTo>
                    <a:pt x="414" y="714"/>
                  </a:lnTo>
                  <a:lnTo>
                    <a:pt x="409" y="669"/>
                  </a:lnTo>
                  <a:lnTo>
                    <a:pt x="402" y="605"/>
                  </a:lnTo>
                  <a:lnTo>
                    <a:pt x="396" y="462"/>
                  </a:lnTo>
                  <a:lnTo>
                    <a:pt x="402" y="493"/>
                  </a:lnTo>
                  <a:lnTo>
                    <a:pt x="409" y="553"/>
                  </a:lnTo>
                  <a:lnTo>
                    <a:pt x="422" y="633"/>
                  </a:lnTo>
                  <a:lnTo>
                    <a:pt x="434" y="722"/>
                  </a:lnTo>
                  <a:lnTo>
                    <a:pt x="447" y="809"/>
                  </a:lnTo>
                  <a:lnTo>
                    <a:pt x="458" y="885"/>
                  </a:lnTo>
                  <a:lnTo>
                    <a:pt x="467" y="940"/>
                  </a:lnTo>
                  <a:lnTo>
                    <a:pt x="473" y="963"/>
                  </a:lnTo>
                  <a:lnTo>
                    <a:pt x="495" y="921"/>
                  </a:lnTo>
                  <a:lnTo>
                    <a:pt x="513" y="889"/>
                  </a:lnTo>
                  <a:lnTo>
                    <a:pt x="527" y="861"/>
                  </a:lnTo>
                  <a:lnTo>
                    <a:pt x="538" y="836"/>
                  </a:lnTo>
                  <a:lnTo>
                    <a:pt x="547" y="809"/>
                  </a:lnTo>
                  <a:lnTo>
                    <a:pt x="553" y="778"/>
                  </a:lnTo>
                  <a:lnTo>
                    <a:pt x="555" y="738"/>
                  </a:lnTo>
                  <a:lnTo>
                    <a:pt x="557" y="687"/>
                  </a:lnTo>
                  <a:lnTo>
                    <a:pt x="557" y="654"/>
                  </a:lnTo>
                  <a:lnTo>
                    <a:pt x="560" y="627"/>
                  </a:lnTo>
                  <a:lnTo>
                    <a:pt x="567" y="603"/>
                  </a:lnTo>
                  <a:lnTo>
                    <a:pt x="582" y="583"/>
                  </a:lnTo>
                  <a:lnTo>
                    <a:pt x="571" y="574"/>
                  </a:lnTo>
                  <a:lnTo>
                    <a:pt x="558" y="558"/>
                  </a:lnTo>
                  <a:lnTo>
                    <a:pt x="547" y="542"/>
                  </a:lnTo>
                  <a:lnTo>
                    <a:pt x="536" y="525"/>
                  </a:lnTo>
                  <a:lnTo>
                    <a:pt x="524" y="516"/>
                  </a:lnTo>
                  <a:lnTo>
                    <a:pt x="509" y="505"/>
                  </a:lnTo>
                  <a:lnTo>
                    <a:pt x="496" y="493"/>
                  </a:lnTo>
                  <a:lnTo>
                    <a:pt x="484" y="473"/>
                  </a:lnTo>
                  <a:lnTo>
                    <a:pt x="469" y="445"/>
                  </a:lnTo>
                  <a:lnTo>
                    <a:pt x="456" y="411"/>
                  </a:lnTo>
                  <a:lnTo>
                    <a:pt x="443" y="365"/>
                  </a:lnTo>
                  <a:lnTo>
                    <a:pt x="431" y="305"/>
                  </a:lnTo>
                  <a:lnTo>
                    <a:pt x="412" y="295"/>
                  </a:lnTo>
                  <a:lnTo>
                    <a:pt x="398" y="278"/>
                  </a:lnTo>
                  <a:lnTo>
                    <a:pt x="389" y="262"/>
                  </a:lnTo>
                  <a:lnTo>
                    <a:pt x="385" y="245"/>
                  </a:lnTo>
                  <a:lnTo>
                    <a:pt x="376" y="247"/>
                  </a:lnTo>
                  <a:lnTo>
                    <a:pt x="365" y="245"/>
                  </a:lnTo>
                  <a:lnTo>
                    <a:pt x="354" y="242"/>
                  </a:lnTo>
                  <a:lnTo>
                    <a:pt x="341" y="236"/>
                  </a:lnTo>
                  <a:lnTo>
                    <a:pt x="327" y="229"/>
                  </a:lnTo>
                  <a:lnTo>
                    <a:pt x="316" y="220"/>
                  </a:lnTo>
                  <a:lnTo>
                    <a:pt x="305" y="207"/>
                  </a:lnTo>
                  <a:lnTo>
                    <a:pt x="296" y="191"/>
                  </a:lnTo>
                  <a:lnTo>
                    <a:pt x="265" y="193"/>
                  </a:lnTo>
                  <a:lnTo>
                    <a:pt x="237" y="180"/>
                  </a:lnTo>
                  <a:lnTo>
                    <a:pt x="216" y="158"/>
                  </a:lnTo>
                  <a:lnTo>
                    <a:pt x="192" y="129"/>
                  </a:lnTo>
                  <a:lnTo>
                    <a:pt x="165" y="95"/>
                  </a:lnTo>
                  <a:lnTo>
                    <a:pt x="134" y="60"/>
                  </a:lnTo>
                  <a:lnTo>
                    <a:pt x="93" y="27"/>
                  </a:lnTo>
                  <a:lnTo>
                    <a:pt x="44" y="0"/>
                  </a:lnTo>
                  <a:lnTo>
                    <a:pt x="26" y="27"/>
                  </a:lnTo>
                  <a:lnTo>
                    <a:pt x="13" y="77"/>
                  </a:lnTo>
                  <a:lnTo>
                    <a:pt x="6" y="142"/>
                  </a:lnTo>
                  <a:lnTo>
                    <a:pt x="0" y="213"/>
                  </a:lnTo>
                  <a:lnTo>
                    <a:pt x="0" y="287"/>
                  </a:lnTo>
                  <a:lnTo>
                    <a:pt x="4" y="353"/>
                  </a:lnTo>
                  <a:lnTo>
                    <a:pt x="13" y="407"/>
                  </a:lnTo>
                  <a:lnTo>
                    <a:pt x="24" y="442"/>
                  </a:lnTo>
                  <a:lnTo>
                    <a:pt x="37" y="473"/>
                  </a:lnTo>
                  <a:lnTo>
                    <a:pt x="46" y="513"/>
                  </a:lnTo>
                  <a:lnTo>
                    <a:pt x="50" y="556"/>
                  </a:lnTo>
                  <a:lnTo>
                    <a:pt x="51" y="602"/>
                  </a:lnTo>
                  <a:lnTo>
                    <a:pt x="53" y="647"/>
                  </a:lnTo>
                  <a:lnTo>
                    <a:pt x="57" y="685"/>
                  </a:lnTo>
                  <a:lnTo>
                    <a:pt x="64" y="714"/>
                  </a:lnTo>
                  <a:lnTo>
                    <a:pt x="79" y="731"/>
                  </a:lnTo>
                  <a:lnTo>
                    <a:pt x="75" y="792"/>
                  </a:lnTo>
                  <a:lnTo>
                    <a:pt x="72" y="860"/>
                  </a:lnTo>
                  <a:lnTo>
                    <a:pt x="70" y="920"/>
                  </a:lnTo>
                  <a:lnTo>
                    <a:pt x="68" y="965"/>
                  </a:lnTo>
                  <a:lnTo>
                    <a:pt x="66" y="97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479960"/>
              <a:ext cx="890640" cy="329400"/>
            </a:xfrm>
            <a:custGeom>
              <a:avLst/>
              <a:gdLst/>
              <a:ahLst/>
              <a:rect l="l" t="t" r="r" b="b"/>
              <a:pathLst>
                <a:path w="1568" h="672">
                  <a:moveTo>
                    <a:pt x="476" y="414"/>
                  </a:moveTo>
                  <a:lnTo>
                    <a:pt x="450" y="394"/>
                  </a:lnTo>
                  <a:lnTo>
                    <a:pt x="430" y="354"/>
                  </a:lnTo>
                  <a:lnTo>
                    <a:pt x="412" y="300"/>
                  </a:lnTo>
                  <a:lnTo>
                    <a:pt x="397" y="236"/>
                  </a:lnTo>
                  <a:lnTo>
                    <a:pt x="379" y="169"/>
                  </a:lnTo>
                  <a:lnTo>
                    <a:pt x="356" y="101"/>
                  </a:lnTo>
                  <a:lnTo>
                    <a:pt x="325" y="45"/>
                  </a:lnTo>
                  <a:lnTo>
                    <a:pt x="284" y="0"/>
                  </a:lnTo>
                  <a:lnTo>
                    <a:pt x="323" y="82"/>
                  </a:lnTo>
                  <a:lnTo>
                    <a:pt x="354" y="160"/>
                  </a:lnTo>
                  <a:lnTo>
                    <a:pt x="374" y="236"/>
                  </a:lnTo>
                  <a:lnTo>
                    <a:pt x="385" y="303"/>
                  </a:lnTo>
                  <a:lnTo>
                    <a:pt x="385" y="361"/>
                  </a:lnTo>
                  <a:lnTo>
                    <a:pt x="372" y="403"/>
                  </a:lnTo>
                  <a:lnTo>
                    <a:pt x="348" y="430"/>
                  </a:lnTo>
                  <a:lnTo>
                    <a:pt x="310" y="436"/>
                  </a:lnTo>
                  <a:lnTo>
                    <a:pt x="273" y="419"/>
                  </a:lnTo>
                  <a:lnTo>
                    <a:pt x="252" y="389"/>
                  </a:lnTo>
                  <a:lnTo>
                    <a:pt x="242" y="347"/>
                  </a:lnTo>
                  <a:lnTo>
                    <a:pt x="244" y="300"/>
                  </a:lnTo>
                  <a:lnTo>
                    <a:pt x="252" y="252"/>
                  </a:lnTo>
                  <a:lnTo>
                    <a:pt x="266" y="214"/>
                  </a:lnTo>
                  <a:lnTo>
                    <a:pt x="283" y="187"/>
                  </a:lnTo>
                  <a:lnTo>
                    <a:pt x="299" y="180"/>
                  </a:lnTo>
                  <a:lnTo>
                    <a:pt x="283" y="181"/>
                  </a:lnTo>
                  <a:lnTo>
                    <a:pt x="264" y="196"/>
                  </a:lnTo>
                  <a:lnTo>
                    <a:pt x="246" y="220"/>
                  </a:lnTo>
                  <a:lnTo>
                    <a:pt x="232" y="252"/>
                  </a:lnTo>
                  <a:lnTo>
                    <a:pt x="221" y="294"/>
                  </a:lnTo>
                  <a:lnTo>
                    <a:pt x="217" y="343"/>
                  </a:lnTo>
                  <a:lnTo>
                    <a:pt x="222" y="399"/>
                  </a:lnTo>
                  <a:lnTo>
                    <a:pt x="241" y="461"/>
                  </a:lnTo>
                  <a:lnTo>
                    <a:pt x="241" y="476"/>
                  </a:lnTo>
                  <a:lnTo>
                    <a:pt x="230" y="492"/>
                  </a:lnTo>
                  <a:lnTo>
                    <a:pt x="213" y="507"/>
                  </a:lnTo>
                  <a:lnTo>
                    <a:pt x="193" y="518"/>
                  </a:lnTo>
                  <a:lnTo>
                    <a:pt x="173" y="523"/>
                  </a:lnTo>
                  <a:lnTo>
                    <a:pt x="155" y="523"/>
                  </a:lnTo>
                  <a:lnTo>
                    <a:pt x="144" y="512"/>
                  </a:lnTo>
                  <a:lnTo>
                    <a:pt x="142" y="490"/>
                  </a:lnTo>
                  <a:lnTo>
                    <a:pt x="142" y="458"/>
                  </a:lnTo>
                  <a:lnTo>
                    <a:pt x="135" y="425"/>
                  </a:lnTo>
                  <a:lnTo>
                    <a:pt x="124" y="396"/>
                  </a:lnTo>
                  <a:lnTo>
                    <a:pt x="109" y="372"/>
                  </a:lnTo>
                  <a:lnTo>
                    <a:pt x="93" y="350"/>
                  </a:lnTo>
                  <a:lnTo>
                    <a:pt x="77" y="336"/>
                  </a:lnTo>
                  <a:lnTo>
                    <a:pt x="64" y="327"/>
                  </a:lnTo>
                  <a:lnTo>
                    <a:pt x="53" y="325"/>
                  </a:lnTo>
                  <a:lnTo>
                    <a:pt x="75" y="343"/>
                  </a:lnTo>
                  <a:lnTo>
                    <a:pt x="93" y="374"/>
                  </a:lnTo>
                  <a:lnTo>
                    <a:pt x="106" y="410"/>
                  </a:lnTo>
                  <a:lnTo>
                    <a:pt x="111" y="450"/>
                  </a:lnTo>
                  <a:lnTo>
                    <a:pt x="106" y="488"/>
                  </a:lnTo>
                  <a:lnTo>
                    <a:pt x="86" y="521"/>
                  </a:lnTo>
                  <a:lnTo>
                    <a:pt x="53" y="545"/>
                  </a:lnTo>
                  <a:lnTo>
                    <a:pt x="0" y="554"/>
                  </a:lnTo>
                  <a:lnTo>
                    <a:pt x="0" y="603"/>
                  </a:lnTo>
                  <a:lnTo>
                    <a:pt x="0" y="641"/>
                  </a:lnTo>
                  <a:lnTo>
                    <a:pt x="0" y="665"/>
                  </a:lnTo>
                  <a:lnTo>
                    <a:pt x="0" y="672"/>
                  </a:lnTo>
                  <a:lnTo>
                    <a:pt x="1568" y="672"/>
                  </a:lnTo>
                  <a:lnTo>
                    <a:pt x="1568" y="621"/>
                  </a:lnTo>
                  <a:lnTo>
                    <a:pt x="1568" y="583"/>
                  </a:lnTo>
                  <a:lnTo>
                    <a:pt x="1568" y="561"/>
                  </a:lnTo>
                  <a:lnTo>
                    <a:pt x="1568" y="554"/>
                  </a:lnTo>
                  <a:lnTo>
                    <a:pt x="1539" y="554"/>
                  </a:lnTo>
                  <a:lnTo>
                    <a:pt x="1510" y="554"/>
                  </a:lnTo>
                  <a:lnTo>
                    <a:pt x="1479" y="556"/>
                  </a:lnTo>
                  <a:lnTo>
                    <a:pt x="1451" y="556"/>
                  </a:lnTo>
                  <a:lnTo>
                    <a:pt x="1426" y="552"/>
                  </a:lnTo>
                  <a:lnTo>
                    <a:pt x="1402" y="547"/>
                  </a:lnTo>
                  <a:lnTo>
                    <a:pt x="1386" y="539"/>
                  </a:lnTo>
                  <a:lnTo>
                    <a:pt x="1375" y="525"/>
                  </a:lnTo>
                  <a:lnTo>
                    <a:pt x="1367" y="539"/>
                  </a:lnTo>
                  <a:lnTo>
                    <a:pt x="1358" y="552"/>
                  </a:lnTo>
                  <a:lnTo>
                    <a:pt x="1349" y="565"/>
                  </a:lnTo>
                  <a:lnTo>
                    <a:pt x="1338" y="576"/>
                  </a:lnTo>
                  <a:lnTo>
                    <a:pt x="1326" y="585"/>
                  </a:lnTo>
                  <a:lnTo>
                    <a:pt x="1309" y="590"/>
                  </a:lnTo>
                  <a:lnTo>
                    <a:pt x="1291" y="596"/>
                  </a:lnTo>
                  <a:lnTo>
                    <a:pt x="1271" y="599"/>
                  </a:lnTo>
                  <a:lnTo>
                    <a:pt x="1291" y="583"/>
                  </a:lnTo>
                  <a:lnTo>
                    <a:pt x="1313" y="559"/>
                  </a:lnTo>
                  <a:lnTo>
                    <a:pt x="1333" y="528"/>
                  </a:lnTo>
                  <a:lnTo>
                    <a:pt x="1349" y="494"/>
                  </a:lnTo>
                  <a:lnTo>
                    <a:pt x="1357" y="456"/>
                  </a:lnTo>
                  <a:lnTo>
                    <a:pt x="1355" y="412"/>
                  </a:lnTo>
                  <a:lnTo>
                    <a:pt x="1342" y="369"/>
                  </a:lnTo>
                  <a:lnTo>
                    <a:pt x="1311" y="323"/>
                  </a:lnTo>
                  <a:lnTo>
                    <a:pt x="1324" y="359"/>
                  </a:lnTo>
                  <a:lnTo>
                    <a:pt x="1329" y="396"/>
                  </a:lnTo>
                  <a:lnTo>
                    <a:pt x="1329" y="430"/>
                  </a:lnTo>
                  <a:lnTo>
                    <a:pt x="1322" y="465"/>
                  </a:lnTo>
                  <a:lnTo>
                    <a:pt x="1305" y="496"/>
                  </a:lnTo>
                  <a:lnTo>
                    <a:pt x="1284" y="525"/>
                  </a:lnTo>
                  <a:lnTo>
                    <a:pt x="1253" y="552"/>
                  </a:lnTo>
                  <a:lnTo>
                    <a:pt x="1216" y="574"/>
                  </a:lnTo>
                  <a:lnTo>
                    <a:pt x="1196" y="552"/>
                  </a:lnTo>
                  <a:lnTo>
                    <a:pt x="1178" y="528"/>
                  </a:lnTo>
                  <a:lnTo>
                    <a:pt x="1163" y="505"/>
                  </a:lnTo>
                  <a:lnTo>
                    <a:pt x="1152" y="481"/>
                  </a:lnTo>
                  <a:lnTo>
                    <a:pt x="1145" y="458"/>
                  </a:lnTo>
                  <a:lnTo>
                    <a:pt x="1141" y="432"/>
                  </a:lnTo>
                  <a:lnTo>
                    <a:pt x="1145" y="407"/>
                  </a:lnTo>
                  <a:lnTo>
                    <a:pt x="1152" y="381"/>
                  </a:lnTo>
                  <a:lnTo>
                    <a:pt x="1140" y="399"/>
                  </a:lnTo>
                  <a:lnTo>
                    <a:pt x="1129" y="419"/>
                  </a:lnTo>
                  <a:lnTo>
                    <a:pt x="1119" y="438"/>
                  </a:lnTo>
                  <a:lnTo>
                    <a:pt x="1112" y="456"/>
                  </a:lnTo>
                  <a:lnTo>
                    <a:pt x="1107" y="474"/>
                  </a:lnTo>
                  <a:lnTo>
                    <a:pt x="1103" y="492"/>
                  </a:lnTo>
                  <a:lnTo>
                    <a:pt x="1103" y="508"/>
                  </a:lnTo>
                  <a:lnTo>
                    <a:pt x="1103" y="525"/>
                  </a:lnTo>
                  <a:lnTo>
                    <a:pt x="1098" y="498"/>
                  </a:lnTo>
                  <a:lnTo>
                    <a:pt x="1096" y="463"/>
                  </a:lnTo>
                  <a:lnTo>
                    <a:pt x="1098" y="421"/>
                  </a:lnTo>
                  <a:lnTo>
                    <a:pt x="1107" y="378"/>
                  </a:lnTo>
                  <a:lnTo>
                    <a:pt x="1123" y="334"/>
                  </a:lnTo>
                  <a:lnTo>
                    <a:pt x="1147" y="292"/>
                  </a:lnTo>
                  <a:lnTo>
                    <a:pt x="1180" y="256"/>
                  </a:lnTo>
                  <a:lnTo>
                    <a:pt x="1222" y="225"/>
                  </a:lnTo>
                  <a:lnTo>
                    <a:pt x="1189" y="240"/>
                  </a:lnTo>
                  <a:lnTo>
                    <a:pt x="1156" y="260"/>
                  </a:lnTo>
                  <a:lnTo>
                    <a:pt x="1123" y="283"/>
                  </a:lnTo>
                  <a:lnTo>
                    <a:pt x="1090" y="309"/>
                  </a:lnTo>
                  <a:lnTo>
                    <a:pt x="1061" y="336"/>
                  </a:lnTo>
                  <a:lnTo>
                    <a:pt x="1037" y="361"/>
                  </a:lnTo>
                  <a:lnTo>
                    <a:pt x="1017" y="383"/>
                  </a:lnTo>
                  <a:lnTo>
                    <a:pt x="1005" y="401"/>
                  </a:lnTo>
                  <a:lnTo>
                    <a:pt x="1003" y="359"/>
                  </a:lnTo>
                  <a:lnTo>
                    <a:pt x="992" y="330"/>
                  </a:lnTo>
                  <a:lnTo>
                    <a:pt x="981" y="310"/>
                  </a:lnTo>
                  <a:lnTo>
                    <a:pt x="974" y="294"/>
                  </a:lnTo>
                  <a:lnTo>
                    <a:pt x="972" y="312"/>
                  </a:lnTo>
                  <a:lnTo>
                    <a:pt x="963" y="338"/>
                  </a:lnTo>
                  <a:lnTo>
                    <a:pt x="950" y="365"/>
                  </a:lnTo>
                  <a:lnTo>
                    <a:pt x="934" y="396"/>
                  </a:lnTo>
                  <a:lnTo>
                    <a:pt x="915" y="425"/>
                  </a:lnTo>
                  <a:lnTo>
                    <a:pt x="899" y="450"/>
                  </a:lnTo>
                  <a:lnTo>
                    <a:pt x="884" y="472"/>
                  </a:lnTo>
                  <a:lnTo>
                    <a:pt x="873" y="485"/>
                  </a:lnTo>
                  <a:lnTo>
                    <a:pt x="866" y="490"/>
                  </a:lnTo>
                  <a:lnTo>
                    <a:pt x="884" y="596"/>
                  </a:lnTo>
                  <a:lnTo>
                    <a:pt x="877" y="601"/>
                  </a:lnTo>
                  <a:lnTo>
                    <a:pt x="870" y="607"/>
                  </a:lnTo>
                  <a:lnTo>
                    <a:pt x="864" y="610"/>
                  </a:lnTo>
                  <a:lnTo>
                    <a:pt x="859" y="612"/>
                  </a:lnTo>
                  <a:lnTo>
                    <a:pt x="851" y="612"/>
                  </a:lnTo>
                  <a:lnTo>
                    <a:pt x="844" y="610"/>
                  </a:lnTo>
                  <a:lnTo>
                    <a:pt x="835" y="608"/>
                  </a:lnTo>
                  <a:lnTo>
                    <a:pt x="824" y="603"/>
                  </a:lnTo>
                  <a:lnTo>
                    <a:pt x="815" y="608"/>
                  </a:lnTo>
                  <a:lnTo>
                    <a:pt x="806" y="612"/>
                  </a:lnTo>
                  <a:lnTo>
                    <a:pt x="797" y="616"/>
                  </a:lnTo>
                  <a:lnTo>
                    <a:pt x="791" y="617"/>
                  </a:lnTo>
                  <a:lnTo>
                    <a:pt x="784" y="619"/>
                  </a:lnTo>
                  <a:lnTo>
                    <a:pt x="779" y="617"/>
                  </a:lnTo>
                  <a:lnTo>
                    <a:pt x="771" y="616"/>
                  </a:lnTo>
                  <a:lnTo>
                    <a:pt x="762" y="612"/>
                  </a:lnTo>
                  <a:lnTo>
                    <a:pt x="751" y="605"/>
                  </a:lnTo>
                  <a:lnTo>
                    <a:pt x="742" y="607"/>
                  </a:lnTo>
                  <a:lnTo>
                    <a:pt x="733" y="608"/>
                  </a:lnTo>
                  <a:lnTo>
                    <a:pt x="724" y="610"/>
                  </a:lnTo>
                  <a:lnTo>
                    <a:pt x="717" y="612"/>
                  </a:lnTo>
                  <a:lnTo>
                    <a:pt x="711" y="610"/>
                  </a:lnTo>
                  <a:lnTo>
                    <a:pt x="706" y="608"/>
                  </a:lnTo>
                  <a:lnTo>
                    <a:pt x="698" y="605"/>
                  </a:lnTo>
                  <a:lnTo>
                    <a:pt x="689" y="599"/>
                  </a:lnTo>
                  <a:lnTo>
                    <a:pt x="680" y="592"/>
                  </a:lnTo>
                  <a:lnTo>
                    <a:pt x="642" y="476"/>
                  </a:lnTo>
                  <a:lnTo>
                    <a:pt x="638" y="476"/>
                  </a:lnTo>
                  <a:lnTo>
                    <a:pt x="634" y="485"/>
                  </a:lnTo>
                  <a:lnTo>
                    <a:pt x="622" y="490"/>
                  </a:lnTo>
                  <a:lnTo>
                    <a:pt x="600" y="494"/>
                  </a:lnTo>
                  <a:lnTo>
                    <a:pt x="576" y="496"/>
                  </a:lnTo>
                  <a:lnTo>
                    <a:pt x="549" y="498"/>
                  </a:lnTo>
                  <a:lnTo>
                    <a:pt x="523" y="496"/>
                  </a:lnTo>
                  <a:lnTo>
                    <a:pt x="501" y="494"/>
                  </a:lnTo>
                  <a:lnTo>
                    <a:pt x="485" y="492"/>
                  </a:lnTo>
                  <a:lnTo>
                    <a:pt x="470" y="481"/>
                  </a:lnTo>
                  <a:lnTo>
                    <a:pt x="469" y="461"/>
                  </a:lnTo>
                  <a:lnTo>
                    <a:pt x="472" y="439"/>
                  </a:lnTo>
                  <a:lnTo>
                    <a:pt x="474" y="419"/>
                  </a:lnTo>
                  <a:lnTo>
                    <a:pt x="476" y="4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219320" y="1752480"/>
            <a:ext cx="601956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9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FB81-A204-40F3-8B8A-D60610F499D8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066680"/>
            <a:ext cx="890640" cy="742680"/>
            <a:chOff x="228600" y="1066680"/>
            <a:chExt cx="890640" cy="742680"/>
          </a:xfrm>
        </p:grpSpPr>
        <p:sp>
          <p:nvSpPr>
            <p:cNvPr id="56" name=""/>
            <p:cNvSpPr/>
            <p:nvPr/>
          </p:nvSpPr>
          <p:spPr>
            <a:xfrm>
              <a:off x="410400" y="1066680"/>
              <a:ext cx="660960" cy="468360"/>
            </a:xfrm>
            <a:custGeom>
              <a:avLst/>
              <a:gdLst/>
              <a:ahLst/>
              <a:rect l="l" t="t" r="r" b="b"/>
              <a:pathLst>
                <a:path w="1165" h="955">
                  <a:moveTo>
                    <a:pt x="671" y="875"/>
                  </a:moveTo>
                  <a:lnTo>
                    <a:pt x="689" y="890"/>
                  </a:lnTo>
                  <a:lnTo>
                    <a:pt x="709" y="905"/>
                  </a:lnTo>
                  <a:lnTo>
                    <a:pt x="731" y="919"/>
                  </a:lnTo>
                  <a:lnTo>
                    <a:pt x="755" y="930"/>
                  </a:lnTo>
                  <a:lnTo>
                    <a:pt x="780" y="941"/>
                  </a:lnTo>
                  <a:lnTo>
                    <a:pt x="804" y="948"/>
                  </a:lnTo>
                  <a:lnTo>
                    <a:pt x="830" y="954"/>
                  </a:lnTo>
                  <a:lnTo>
                    <a:pt x="855" y="955"/>
                  </a:lnTo>
                  <a:lnTo>
                    <a:pt x="881" y="955"/>
                  </a:lnTo>
                  <a:lnTo>
                    <a:pt x="904" y="952"/>
                  </a:lnTo>
                  <a:lnTo>
                    <a:pt x="926" y="944"/>
                  </a:lnTo>
                  <a:lnTo>
                    <a:pt x="946" y="934"/>
                  </a:lnTo>
                  <a:lnTo>
                    <a:pt x="963" y="917"/>
                  </a:lnTo>
                  <a:lnTo>
                    <a:pt x="977" y="897"/>
                  </a:lnTo>
                  <a:lnTo>
                    <a:pt x="988" y="874"/>
                  </a:lnTo>
                  <a:lnTo>
                    <a:pt x="996" y="843"/>
                  </a:lnTo>
                  <a:lnTo>
                    <a:pt x="999" y="801"/>
                  </a:lnTo>
                  <a:lnTo>
                    <a:pt x="994" y="772"/>
                  </a:lnTo>
                  <a:lnTo>
                    <a:pt x="985" y="752"/>
                  </a:lnTo>
                  <a:lnTo>
                    <a:pt x="970" y="741"/>
                  </a:lnTo>
                  <a:lnTo>
                    <a:pt x="955" y="737"/>
                  </a:lnTo>
                  <a:lnTo>
                    <a:pt x="943" y="737"/>
                  </a:lnTo>
                  <a:lnTo>
                    <a:pt x="932" y="743"/>
                  </a:lnTo>
                  <a:lnTo>
                    <a:pt x="926" y="750"/>
                  </a:lnTo>
                  <a:lnTo>
                    <a:pt x="923" y="763"/>
                  </a:lnTo>
                  <a:lnTo>
                    <a:pt x="921" y="777"/>
                  </a:lnTo>
                  <a:lnTo>
                    <a:pt x="926" y="796"/>
                  </a:lnTo>
                  <a:lnTo>
                    <a:pt x="943" y="817"/>
                  </a:lnTo>
                  <a:lnTo>
                    <a:pt x="946" y="830"/>
                  </a:lnTo>
                  <a:lnTo>
                    <a:pt x="945" y="846"/>
                  </a:lnTo>
                  <a:lnTo>
                    <a:pt x="939" y="865"/>
                  </a:lnTo>
                  <a:lnTo>
                    <a:pt x="928" y="881"/>
                  </a:lnTo>
                  <a:lnTo>
                    <a:pt x="912" y="895"/>
                  </a:lnTo>
                  <a:lnTo>
                    <a:pt x="892" y="905"/>
                  </a:lnTo>
                  <a:lnTo>
                    <a:pt x="870" y="906"/>
                  </a:lnTo>
                  <a:lnTo>
                    <a:pt x="842" y="895"/>
                  </a:lnTo>
                  <a:lnTo>
                    <a:pt x="817" y="877"/>
                  </a:lnTo>
                  <a:lnTo>
                    <a:pt x="793" y="857"/>
                  </a:lnTo>
                  <a:lnTo>
                    <a:pt x="771" y="835"/>
                  </a:lnTo>
                  <a:lnTo>
                    <a:pt x="757" y="808"/>
                  </a:lnTo>
                  <a:lnTo>
                    <a:pt x="746" y="776"/>
                  </a:lnTo>
                  <a:lnTo>
                    <a:pt x="742" y="739"/>
                  </a:lnTo>
                  <a:lnTo>
                    <a:pt x="744" y="696"/>
                  </a:lnTo>
                  <a:lnTo>
                    <a:pt x="755" y="647"/>
                  </a:lnTo>
                  <a:lnTo>
                    <a:pt x="762" y="686"/>
                  </a:lnTo>
                  <a:lnTo>
                    <a:pt x="769" y="726"/>
                  </a:lnTo>
                  <a:lnTo>
                    <a:pt x="777" y="768"/>
                  </a:lnTo>
                  <a:lnTo>
                    <a:pt x="784" y="810"/>
                  </a:lnTo>
                  <a:lnTo>
                    <a:pt x="799" y="772"/>
                  </a:lnTo>
                  <a:lnTo>
                    <a:pt x="811" y="717"/>
                  </a:lnTo>
                  <a:lnTo>
                    <a:pt x="819" y="652"/>
                  </a:lnTo>
                  <a:lnTo>
                    <a:pt x="819" y="581"/>
                  </a:lnTo>
                  <a:lnTo>
                    <a:pt x="835" y="572"/>
                  </a:lnTo>
                  <a:lnTo>
                    <a:pt x="837" y="554"/>
                  </a:lnTo>
                  <a:lnTo>
                    <a:pt x="833" y="525"/>
                  </a:lnTo>
                  <a:lnTo>
                    <a:pt x="828" y="474"/>
                  </a:lnTo>
                  <a:lnTo>
                    <a:pt x="822" y="416"/>
                  </a:lnTo>
                  <a:lnTo>
                    <a:pt x="813" y="370"/>
                  </a:lnTo>
                  <a:lnTo>
                    <a:pt x="802" y="338"/>
                  </a:lnTo>
                  <a:lnTo>
                    <a:pt x="793" y="314"/>
                  </a:lnTo>
                  <a:lnTo>
                    <a:pt x="786" y="298"/>
                  </a:lnTo>
                  <a:lnTo>
                    <a:pt x="786" y="285"/>
                  </a:lnTo>
                  <a:lnTo>
                    <a:pt x="790" y="272"/>
                  </a:lnTo>
                  <a:lnTo>
                    <a:pt x="804" y="258"/>
                  </a:lnTo>
                  <a:lnTo>
                    <a:pt x="824" y="249"/>
                  </a:lnTo>
                  <a:lnTo>
                    <a:pt x="837" y="258"/>
                  </a:lnTo>
                  <a:lnTo>
                    <a:pt x="837" y="276"/>
                  </a:lnTo>
                  <a:lnTo>
                    <a:pt x="824" y="301"/>
                  </a:lnTo>
                  <a:lnTo>
                    <a:pt x="822" y="316"/>
                  </a:lnTo>
                  <a:lnTo>
                    <a:pt x="828" y="343"/>
                  </a:lnTo>
                  <a:lnTo>
                    <a:pt x="839" y="379"/>
                  </a:lnTo>
                  <a:lnTo>
                    <a:pt x="846" y="428"/>
                  </a:lnTo>
                  <a:lnTo>
                    <a:pt x="850" y="447"/>
                  </a:lnTo>
                  <a:lnTo>
                    <a:pt x="857" y="452"/>
                  </a:lnTo>
                  <a:lnTo>
                    <a:pt x="866" y="448"/>
                  </a:lnTo>
                  <a:lnTo>
                    <a:pt x="877" y="436"/>
                  </a:lnTo>
                  <a:lnTo>
                    <a:pt x="890" y="421"/>
                  </a:lnTo>
                  <a:lnTo>
                    <a:pt x="903" y="403"/>
                  </a:lnTo>
                  <a:lnTo>
                    <a:pt x="915" y="387"/>
                  </a:lnTo>
                  <a:lnTo>
                    <a:pt x="926" y="376"/>
                  </a:lnTo>
                  <a:lnTo>
                    <a:pt x="943" y="363"/>
                  </a:lnTo>
                  <a:lnTo>
                    <a:pt x="970" y="345"/>
                  </a:lnTo>
                  <a:lnTo>
                    <a:pt x="1003" y="325"/>
                  </a:lnTo>
                  <a:lnTo>
                    <a:pt x="1041" y="303"/>
                  </a:lnTo>
                  <a:lnTo>
                    <a:pt x="1078" y="283"/>
                  </a:lnTo>
                  <a:lnTo>
                    <a:pt x="1112" y="265"/>
                  </a:lnTo>
                  <a:lnTo>
                    <a:pt x="1143" y="252"/>
                  </a:lnTo>
                  <a:lnTo>
                    <a:pt x="1165" y="247"/>
                  </a:lnTo>
                  <a:lnTo>
                    <a:pt x="1158" y="236"/>
                  </a:lnTo>
                  <a:lnTo>
                    <a:pt x="1151" y="221"/>
                  </a:lnTo>
                  <a:lnTo>
                    <a:pt x="1141" y="203"/>
                  </a:lnTo>
                  <a:lnTo>
                    <a:pt x="1132" y="183"/>
                  </a:lnTo>
                  <a:lnTo>
                    <a:pt x="1121" y="161"/>
                  </a:lnTo>
                  <a:lnTo>
                    <a:pt x="1110" y="138"/>
                  </a:lnTo>
                  <a:lnTo>
                    <a:pt x="1096" y="116"/>
                  </a:lnTo>
                  <a:lnTo>
                    <a:pt x="1079" y="94"/>
                  </a:lnTo>
                  <a:lnTo>
                    <a:pt x="1063" y="72"/>
                  </a:lnTo>
                  <a:lnTo>
                    <a:pt x="1043" y="54"/>
                  </a:lnTo>
                  <a:lnTo>
                    <a:pt x="1021" y="38"/>
                  </a:lnTo>
                  <a:lnTo>
                    <a:pt x="997" y="25"/>
                  </a:lnTo>
                  <a:lnTo>
                    <a:pt x="970" y="18"/>
                  </a:lnTo>
                  <a:lnTo>
                    <a:pt x="941" y="14"/>
                  </a:lnTo>
                  <a:lnTo>
                    <a:pt x="908" y="16"/>
                  </a:lnTo>
                  <a:lnTo>
                    <a:pt x="873" y="25"/>
                  </a:lnTo>
                  <a:lnTo>
                    <a:pt x="813" y="45"/>
                  </a:lnTo>
                  <a:lnTo>
                    <a:pt x="780" y="56"/>
                  </a:lnTo>
                  <a:lnTo>
                    <a:pt x="768" y="60"/>
                  </a:lnTo>
                  <a:lnTo>
                    <a:pt x="769" y="60"/>
                  </a:lnTo>
                  <a:lnTo>
                    <a:pt x="777" y="58"/>
                  </a:lnTo>
                  <a:lnTo>
                    <a:pt x="784" y="54"/>
                  </a:lnTo>
                  <a:lnTo>
                    <a:pt x="788" y="51"/>
                  </a:lnTo>
                  <a:lnTo>
                    <a:pt x="779" y="51"/>
                  </a:lnTo>
                  <a:lnTo>
                    <a:pt x="797" y="60"/>
                  </a:lnTo>
                  <a:lnTo>
                    <a:pt x="811" y="71"/>
                  </a:lnTo>
                  <a:lnTo>
                    <a:pt x="826" y="83"/>
                  </a:lnTo>
                  <a:lnTo>
                    <a:pt x="837" y="96"/>
                  </a:lnTo>
                  <a:lnTo>
                    <a:pt x="846" y="109"/>
                  </a:lnTo>
                  <a:lnTo>
                    <a:pt x="850" y="121"/>
                  </a:lnTo>
                  <a:lnTo>
                    <a:pt x="852" y="136"/>
                  </a:lnTo>
                  <a:lnTo>
                    <a:pt x="848" y="149"/>
                  </a:lnTo>
                  <a:lnTo>
                    <a:pt x="828" y="120"/>
                  </a:lnTo>
                  <a:lnTo>
                    <a:pt x="808" y="100"/>
                  </a:lnTo>
                  <a:lnTo>
                    <a:pt x="790" y="85"/>
                  </a:lnTo>
                  <a:lnTo>
                    <a:pt x="773" y="78"/>
                  </a:lnTo>
                  <a:lnTo>
                    <a:pt x="755" y="74"/>
                  </a:lnTo>
                  <a:lnTo>
                    <a:pt x="735" y="74"/>
                  </a:lnTo>
                  <a:lnTo>
                    <a:pt x="713" y="74"/>
                  </a:lnTo>
                  <a:lnTo>
                    <a:pt x="689" y="74"/>
                  </a:lnTo>
                  <a:lnTo>
                    <a:pt x="662" y="72"/>
                  </a:lnTo>
                  <a:lnTo>
                    <a:pt x="631" y="69"/>
                  </a:lnTo>
                  <a:lnTo>
                    <a:pt x="598" y="63"/>
                  </a:lnTo>
                  <a:lnTo>
                    <a:pt x="567" y="63"/>
                  </a:lnTo>
                  <a:lnTo>
                    <a:pt x="536" y="65"/>
                  </a:lnTo>
                  <a:lnTo>
                    <a:pt x="511" y="76"/>
                  </a:lnTo>
                  <a:lnTo>
                    <a:pt x="492" y="96"/>
                  </a:lnTo>
                  <a:lnTo>
                    <a:pt x="480" y="129"/>
                  </a:lnTo>
                  <a:lnTo>
                    <a:pt x="465" y="103"/>
                  </a:lnTo>
                  <a:lnTo>
                    <a:pt x="463" y="78"/>
                  </a:lnTo>
                  <a:lnTo>
                    <a:pt x="476" y="58"/>
                  </a:lnTo>
                  <a:lnTo>
                    <a:pt x="505" y="45"/>
                  </a:lnTo>
                  <a:lnTo>
                    <a:pt x="458" y="29"/>
                  </a:lnTo>
                  <a:lnTo>
                    <a:pt x="414" y="16"/>
                  </a:lnTo>
                  <a:lnTo>
                    <a:pt x="376" y="7"/>
                  </a:lnTo>
                  <a:lnTo>
                    <a:pt x="343" y="2"/>
                  </a:lnTo>
                  <a:lnTo>
                    <a:pt x="312" y="0"/>
                  </a:lnTo>
                  <a:lnTo>
                    <a:pt x="283" y="2"/>
                  </a:lnTo>
                  <a:lnTo>
                    <a:pt x="257" y="5"/>
                  </a:lnTo>
                  <a:lnTo>
                    <a:pt x="232" y="12"/>
                  </a:lnTo>
                  <a:lnTo>
                    <a:pt x="208" y="23"/>
                  </a:lnTo>
                  <a:lnTo>
                    <a:pt x="184" y="36"/>
                  </a:lnTo>
                  <a:lnTo>
                    <a:pt x="159" y="52"/>
                  </a:lnTo>
                  <a:lnTo>
                    <a:pt x="133" y="71"/>
                  </a:lnTo>
                  <a:lnTo>
                    <a:pt x="104" y="92"/>
                  </a:lnTo>
                  <a:lnTo>
                    <a:pt x="73" y="116"/>
                  </a:lnTo>
                  <a:lnTo>
                    <a:pt x="38" y="141"/>
                  </a:lnTo>
                  <a:lnTo>
                    <a:pt x="0" y="169"/>
                  </a:lnTo>
                  <a:lnTo>
                    <a:pt x="31" y="194"/>
                  </a:lnTo>
                  <a:lnTo>
                    <a:pt x="66" y="214"/>
                  </a:lnTo>
                  <a:lnTo>
                    <a:pt x="100" y="232"/>
                  </a:lnTo>
                  <a:lnTo>
                    <a:pt x="137" y="250"/>
                  </a:lnTo>
                  <a:lnTo>
                    <a:pt x="173" y="272"/>
                  </a:lnTo>
                  <a:lnTo>
                    <a:pt x="212" y="299"/>
                  </a:lnTo>
                  <a:lnTo>
                    <a:pt x="250" y="334"/>
                  </a:lnTo>
                  <a:lnTo>
                    <a:pt x="286" y="379"/>
                  </a:lnTo>
                  <a:lnTo>
                    <a:pt x="312" y="412"/>
                  </a:lnTo>
                  <a:lnTo>
                    <a:pt x="334" y="432"/>
                  </a:lnTo>
                  <a:lnTo>
                    <a:pt x="352" y="441"/>
                  </a:lnTo>
                  <a:lnTo>
                    <a:pt x="365" y="443"/>
                  </a:lnTo>
                  <a:lnTo>
                    <a:pt x="374" y="439"/>
                  </a:lnTo>
                  <a:lnTo>
                    <a:pt x="379" y="434"/>
                  </a:lnTo>
                  <a:lnTo>
                    <a:pt x="383" y="428"/>
                  </a:lnTo>
                  <a:lnTo>
                    <a:pt x="385" y="425"/>
                  </a:lnTo>
                  <a:lnTo>
                    <a:pt x="390" y="418"/>
                  </a:lnTo>
                  <a:lnTo>
                    <a:pt x="396" y="427"/>
                  </a:lnTo>
                  <a:lnTo>
                    <a:pt x="403" y="447"/>
                  </a:lnTo>
                  <a:lnTo>
                    <a:pt x="419" y="463"/>
                  </a:lnTo>
                  <a:lnTo>
                    <a:pt x="429" y="472"/>
                  </a:lnTo>
                  <a:lnTo>
                    <a:pt x="439" y="483"/>
                  </a:lnTo>
                  <a:lnTo>
                    <a:pt x="452" y="494"/>
                  </a:lnTo>
                  <a:lnTo>
                    <a:pt x="463" y="503"/>
                  </a:lnTo>
                  <a:lnTo>
                    <a:pt x="474" y="503"/>
                  </a:lnTo>
                  <a:lnTo>
                    <a:pt x="481" y="496"/>
                  </a:lnTo>
                  <a:lnTo>
                    <a:pt x="485" y="472"/>
                  </a:lnTo>
                  <a:lnTo>
                    <a:pt x="485" y="434"/>
                  </a:lnTo>
                  <a:lnTo>
                    <a:pt x="487" y="390"/>
                  </a:lnTo>
                  <a:lnTo>
                    <a:pt x="498" y="359"/>
                  </a:lnTo>
                  <a:lnTo>
                    <a:pt x="511" y="339"/>
                  </a:lnTo>
                  <a:lnTo>
                    <a:pt x="520" y="327"/>
                  </a:lnTo>
                  <a:lnTo>
                    <a:pt x="518" y="319"/>
                  </a:lnTo>
                  <a:lnTo>
                    <a:pt x="511" y="310"/>
                  </a:lnTo>
                  <a:lnTo>
                    <a:pt x="500" y="299"/>
                  </a:lnTo>
                  <a:lnTo>
                    <a:pt x="491" y="287"/>
                  </a:lnTo>
                  <a:lnTo>
                    <a:pt x="481" y="278"/>
                  </a:lnTo>
                  <a:lnTo>
                    <a:pt x="478" y="269"/>
                  </a:lnTo>
                  <a:lnTo>
                    <a:pt x="481" y="261"/>
                  </a:lnTo>
                  <a:lnTo>
                    <a:pt x="494" y="258"/>
                  </a:lnTo>
                  <a:lnTo>
                    <a:pt x="511" y="258"/>
                  </a:lnTo>
                  <a:lnTo>
                    <a:pt x="527" y="265"/>
                  </a:lnTo>
                  <a:lnTo>
                    <a:pt x="540" y="274"/>
                  </a:lnTo>
                  <a:lnTo>
                    <a:pt x="549" y="287"/>
                  </a:lnTo>
                  <a:lnTo>
                    <a:pt x="554" y="301"/>
                  </a:lnTo>
                  <a:lnTo>
                    <a:pt x="556" y="316"/>
                  </a:lnTo>
                  <a:lnTo>
                    <a:pt x="551" y="330"/>
                  </a:lnTo>
                  <a:lnTo>
                    <a:pt x="542" y="345"/>
                  </a:lnTo>
                  <a:lnTo>
                    <a:pt x="523" y="389"/>
                  </a:lnTo>
                  <a:lnTo>
                    <a:pt x="514" y="454"/>
                  </a:lnTo>
                  <a:lnTo>
                    <a:pt x="514" y="518"/>
                  </a:lnTo>
                  <a:lnTo>
                    <a:pt x="520" y="557"/>
                  </a:lnTo>
                  <a:lnTo>
                    <a:pt x="529" y="570"/>
                  </a:lnTo>
                  <a:lnTo>
                    <a:pt x="540" y="572"/>
                  </a:lnTo>
                  <a:lnTo>
                    <a:pt x="553" y="568"/>
                  </a:lnTo>
                  <a:lnTo>
                    <a:pt x="567" y="565"/>
                  </a:lnTo>
                  <a:lnTo>
                    <a:pt x="580" y="567"/>
                  </a:lnTo>
                  <a:lnTo>
                    <a:pt x="591" y="577"/>
                  </a:lnTo>
                  <a:lnTo>
                    <a:pt x="598" y="603"/>
                  </a:lnTo>
                  <a:lnTo>
                    <a:pt x="602" y="650"/>
                  </a:lnTo>
                  <a:lnTo>
                    <a:pt x="602" y="692"/>
                  </a:lnTo>
                  <a:lnTo>
                    <a:pt x="605" y="739"/>
                  </a:lnTo>
                  <a:lnTo>
                    <a:pt x="611" y="785"/>
                  </a:lnTo>
                  <a:lnTo>
                    <a:pt x="625" y="817"/>
                  </a:lnTo>
                  <a:lnTo>
                    <a:pt x="636" y="834"/>
                  </a:lnTo>
                  <a:lnTo>
                    <a:pt x="647" y="850"/>
                  </a:lnTo>
                  <a:lnTo>
                    <a:pt x="660" y="866"/>
                  </a:lnTo>
                  <a:lnTo>
                    <a:pt x="671" y="87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0440" y="1210680"/>
              <a:ext cx="330480" cy="567720"/>
            </a:xfrm>
            <a:custGeom>
              <a:avLst/>
              <a:gdLst/>
              <a:ahLst/>
              <a:rect l="l" t="t" r="r" b="b"/>
              <a:pathLst>
                <a:path w="582" h="1159">
                  <a:moveTo>
                    <a:pt x="66" y="970"/>
                  </a:moveTo>
                  <a:lnTo>
                    <a:pt x="64" y="990"/>
                  </a:lnTo>
                  <a:lnTo>
                    <a:pt x="61" y="1012"/>
                  </a:lnTo>
                  <a:lnTo>
                    <a:pt x="62" y="1032"/>
                  </a:lnTo>
                  <a:lnTo>
                    <a:pt x="77" y="1043"/>
                  </a:lnTo>
                  <a:lnTo>
                    <a:pt x="93" y="1045"/>
                  </a:lnTo>
                  <a:lnTo>
                    <a:pt x="115" y="1047"/>
                  </a:lnTo>
                  <a:lnTo>
                    <a:pt x="141" y="1049"/>
                  </a:lnTo>
                  <a:lnTo>
                    <a:pt x="168" y="1047"/>
                  </a:lnTo>
                  <a:lnTo>
                    <a:pt x="192" y="1045"/>
                  </a:lnTo>
                  <a:lnTo>
                    <a:pt x="214" y="1041"/>
                  </a:lnTo>
                  <a:lnTo>
                    <a:pt x="226" y="1036"/>
                  </a:lnTo>
                  <a:lnTo>
                    <a:pt x="230" y="1027"/>
                  </a:lnTo>
                  <a:lnTo>
                    <a:pt x="225" y="980"/>
                  </a:lnTo>
                  <a:lnTo>
                    <a:pt x="214" y="914"/>
                  </a:lnTo>
                  <a:lnTo>
                    <a:pt x="203" y="847"/>
                  </a:lnTo>
                  <a:lnTo>
                    <a:pt x="194" y="794"/>
                  </a:lnTo>
                  <a:lnTo>
                    <a:pt x="192" y="729"/>
                  </a:lnTo>
                  <a:lnTo>
                    <a:pt x="183" y="658"/>
                  </a:lnTo>
                  <a:lnTo>
                    <a:pt x="175" y="585"/>
                  </a:lnTo>
                  <a:lnTo>
                    <a:pt x="174" y="522"/>
                  </a:lnTo>
                  <a:lnTo>
                    <a:pt x="185" y="560"/>
                  </a:lnTo>
                  <a:lnTo>
                    <a:pt x="195" y="598"/>
                  </a:lnTo>
                  <a:lnTo>
                    <a:pt x="205" y="634"/>
                  </a:lnTo>
                  <a:lnTo>
                    <a:pt x="216" y="667"/>
                  </a:lnTo>
                  <a:lnTo>
                    <a:pt x="226" y="700"/>
                  </a:lnTo>
                  <a:lnTo>
                    <a:pt x="236" y="727"/>
                  </a:lnTo>
                  <a:lnTo>
                    <a:pt x="247" y="752"/>
                  </a:lnTo>
                  <a:lnTo>
                    <a:pt x="257" y="771"/>
                  </a:lnTo>
                  <a:lnTo>
                    <a:pt x="250" y="851"/>
                  </a:lnTo>
                  <a:lnTo>
                    <a:pt x="241" y="923"/>
                  </a:lnTo>
                  <a:lnTo>
                    <a:pt x="234" y="981"/>
                  </a:lnTo>
                  <a:lnTo>
                    <a:pt x="232" y="1027"/>
                  </a:lnTo>
                  <a:lnTo>
                    <a:pt x="272" y="1141"/>
                  </a:lnTo>
                  <a:lnTo>
                    <a:pt x="285" y="1110"/>
                  </a:lnTo>
                  <a:lnTo>
                    <a:pt x="296" y="1094"/>
                  </a:lnTo>
                  <a:lnTo>
                    <a:pt x="307" y="1087"/>
                  </a:lnTo>
                  <a:lnTo>
                    <a:pt x="316" y="1090"/>
                  </a:lnTo>
                  <a:lnTo>
                    <a:pt x="323" y="1101"/>
                  </a:lnTo>
                  <a:lnTo>
                    <a:pt x="330" y="1118"/>
                  </a:lnTo>
                  <a:lnTo>
                    <a:pt x="334" y="1138"/>
                  </a:lnTo>
                  <a:lnTo>
                    <a:pt x="334" y="1158"/>
                  </a:lnTo>
                  <a:lnTo>
                    <a:pt x="343" y="1156"/>
                  </a:lnTo>
                  <a:lnTo>
                    <a:pt x="349" y="1123"/>
                  </a:lnTo>
                  <a:lnTo>
                    <a:pt x="358" y="1103"/>
                  </a:lnTo>
                  <a:lnTo>
                    <a:pt x="367" y="1096"/>
                  </a:lnTo>
                  <a:lnTo>
                    <a:pt x="378" y="1098"/>
                  </a:lnTo>
                  <a:lnTo>
                    <a:pt x="387" y="1107"/>
                  </a:lnTo>
                  <a:lnTo>
                    <a:pt x="394" y="1121"/>
                  </a:lnTo>
                  <a:lnTo>
                    <a:pt x="402" y="1139"/>
                  </a:lnTo>
                  <a:lnTo>
                    <a:pt x="405" y="1159"/>
                  </a:lnTo>
                  <a:lnTo>
                    <a:pt x="416" y="1154"/>
                  </a:lnTo>
                  <a:lnTo>
                    <a:pt x="416" y="1121"/>
                  </a:lnTo>
                  <a:lnTo>
                    <a:pt x="420" y="1101"/>
                  </a:lnTo>
                  <a:lnTo>
                    <a:pt x="427" y="1090"/>
                  </a:lnTo>
                  <a:lnTo>
                    <a:pt x="438" y="1090"/>
                  </a:lnTo>
                  <a:lnTo>
                    <a:pt x="449" y="1098"/>
                  </a:lnTo>
                  <a:lnTo>
                    <a:pt x="458" y="1112"/>
                  </a:lnTo>
                  <a:lnTo>
                    <a:pt x="469" y="1129"/>
                  </a:lnTo>
                  <a:lnTo>
                    <a:pt x="476" y="1147"/>
                  </a:lnTo>
                  <a:lnTo>
                    <a:pt x="458" y="1041"/>
                  </a:lnTo>
                  <a:lnTo>
                    <a:pt x="445" y="1003"/>
                  </a:lnTo>
                  <a:lnTo>
                    <a:pt x="434" y="961"/>
                  </a:lnTo>
                  <a:lnTo>
                    <a:pt x="425" y="900"/>
                  </a:lnTo>
                  <a:lnTo>
                    <a:pt x="420" y="798"/>
                  </a:lnTo>
                  <a:lnTo>
                    <a:pt x="414" y="714"/>
                  </a:lnTo>
                  <a:lnTo>
                    <a:pt x="409" y="669"/>
                  </a:lnTo>
                  <a:lnTo>
                    <a:pt x="402" y="605"/>
                  </a:lnTo>
                  <a:lnTo>
                    <a:pt x="396" y="462"/>
                  </a:lnTo>
                  <a:lnTo>
                    <a:pt x="402" y="493"/>
                  </a:lnTo>
                  <a:lnTo>
                    <a:pt x="409" y="553"/>
                  </a:lnTo>
                  <a:lnTo>
                    <a:pt x="422" y="633"/>
                  </a:lnTo>
                  <a:lnTo>
                    <a:pt x="434" y="722"/>
                  </a:lnTo>
                  <a:lnTo>
                    <a:pt x="447" y="809"/>
                  </a:lnTo>
                  <a:lnTo>
                    <a:pt x="458" y="885"/>
                  </a:lnTo>
                  <a:lnTo>
                    <a:pt x="467" y="940"/>
                  </a:lnTo>
                  <a:lnTo>
                    <a:pt x="473" y="963"/>
                  </a:lnTo>
                  <a:lnTo>
                    <a:pt x="495" y="921"/>
                  </a:lnTo>
                  <a:lnTo>
                    <a:pt x="513" y="889"/>
                  </a:lnTo>
                  <a:lnTo>
                    <a:pt x="527" y="861"/>
                  </a:lnTo>
                  <a:lnTo>
                    <a:pt x="538" y="836"/>
                  </a:lnTo>
                  <a:lnTo>
                    <a:pt x="547" y="809"/>
                  </a:lnTo>
                  <a:lnTo>
                    <a:pt x="553" y="778"/>
                  </a:lnTo>
                  <a:lnTo>
                    <a:pt x="555" y="738"/>
                  </a:lnTo>
                  <a:lnTo>
                    <a:pt x="557" y="687"/>
                  </a:lnTo>
                  <a:lnTo>
                    <a:pt x="557" y="654"/>
                  </a:lnTo>
                  <a:lnTo>
                    <a:pt x="560" y="627"/>
                  </a:lnTo>
                  <a:lnTo>
                    <a:pt x="567" y="603"/>
                  </a:lnTo>
                  <a:lnTo>
                    <a:pt x="582" y="583"/>
                  </a:lnTo>
                  <a:lnTo>
                    <a:pt x="571" y="574"/>
                  </a:lnTo>
                  <a:lnTo>
                    <a:pt x="558" y="558"/>
                  </a:lnTo>
                  <a:lnTo>
                    <a:pt x="547" y="542"/>
                  </a:lnTo>
                  <a:lnTo>
                    <a:pt x="536" y="525"/>
                  </a:lnTo>
                  <a:lnTo>
                    <a:pt x="524" y="516"/>
                  </a:lnTo>
                  <a:lnTo>
                    <a:pt x="509" y="505"/>
                  </a:lnTo>
                  <a:lnTo>
                    <a:pt x="496" y="493"/>
                  </a:lnTo>
                  <a:lnTo>
                    <a:pt x="484" y="473"/>
                  </a:lnTo>
                  <a:lnTo>
                    <a:pt x="469" y="445"/>
                  </a:lnTo>
                  <a:lnTo>
                    <a:pt x="456" y="411"/>
                  </a:lnTo>
                  <a:lnTo>
                    <a:pt x="443" y="365"/>
                  </a:lnTo>
                  <a:lnTo>
                    <a:pt x="431" y="305"/>
                  </a:lnTo>
                  <a:lnTo>
                    <a:pt x="412" y="295"/>
                  </a:lnTo>
                  <a:lnTo>
                    <a:pt x="398" y="278"/>
                  </a:lnTo>
                  <a:lnTo>
                    <a:pt x="389" y="262"/>
                  </a:lnTo>
                  <a:lnTo>
                    <a:pt x="385" y="245"/>
                  </a:lnTo>
                  <a:lnTo>
                    <a:pt x="376" y="247"/>
                  </a:lnTo>
                  <a:lnTo>
                    <a:pt x="365" y="245"/>
                  </a:lnTo>
                  <a:lnTo>
                    <a:pt x="354" y="242"/>
                  </a:lnTo>
                  <a:lnTo>
                    <a:pt x="341" y="236"/>
                  </a:lnTo>
                  <a:lnTo>
                    <a:pt x="327" y="229"/>
                  </a:lnTo>
                  <a:lnTo>
                    <a:pt x="316" y="220"/>
                  </a:lnTo>
                  <a:lnTo>
                    <a:pt x="305" y="207"/>
                  </a:lnTo>
                  <a:lnTo>
                    <a:pt x="296" y="191"/>
                  </a:lnTo>
                  <a:lnTo>
                    <a:pt x="265" y="193"/>
                  </a:lnTo>
                  <a:lnTo>
                    <a:pt x="237" y="180"/>
                  </a:lnTo>
                  <a:lnTo>
                    <a:pt x="216" y="158"/>
                  </a:lnTo>
                  <a:lnTo>
                    <a:pt x="192" y="129"/>
                  </a:lnTo>
                  <a:lnTo>
                    <a:pt x="165" y="95"/>
                  </a:lnTo>
                  <a:lnTo>
                    <a:pt x="134" y="60"/>
                  </a:lnTo>
                  <a:lnTo>
                    <a:pt x="93" y="27"/>
                  </a:lnTo>
                  <a:lnTo>
                    <a:pt x="44" y="0"/>
                  </a:lnTo>
                  <a:lnTo>
                    <a:pt x="26" y="27"/>
                  </a:lnTo>
                  <a:lnTo>
                    <a:pt x="13" y="77"/>
                  </a:lnTo>
                  <a:lnTo>
                    <a:pt x="6" y="142"/>
                  </a:lnTo>
                  <a:lnTo>
                    <a:pt x="0" y="213"/>
                  </a:lnTo>
                  <a:lnTo>
                    <a:pt x="0" y="287"/>
                  </a:lnTo>
                  <a:lnTo>
                    <a:pt x="4" y="353"/>
                  </a:lnTo>
                  <a:lnTo>
                    <a:pt x="13" y="407"/>
                  </a:lnTo>
                  <a:lnTo>
                    <a:pt x="24" y="442"/>
                  </a:lnTo>
                  <a:lnTo>
                    <a:pt x="37" y="473"/>
                  </a:lnTo>
                  <a:lnTo>
                    <a:pt x="46" y="513"/>
                  </a:lnTo>
                  <a:lnTo>
                    <a:pt x="50" y="556"/>
                  </a:lnTo>
                  <a:lnTo>
                    <a:pt x="51" y="602"/>
                  </a:lnTo>
                  <a:lnTo>
                    <a:pt x="53" y="647"/>
                  </a:lnTo>
                  <a:lnTo>
                    <a:pt x="57" y="685"/>
                  </a:lnTo>
                  <a:lnTo>
                    <a:pt x="64" y="714"/>
                  </a:lnTo>
                  <a:lnTo>
                    <a:pt x="79" y="731"/>
                  </a:lnTo>
                  <a:lnTo>
                    <a:pt x="75" y="792"/>
                  </a:lnTo>
                  <a:lnTo>
                    <a:pt x="72" y="860"/>
                  </a:lnTo>
                  <a:lnTo>
                    <a:pt x="70" y="920"/>
                  </a:lnTo>
                  <a:lnTo>
                    <a:pt x="68" y="965"/>
                  </a:lnTo>
                  <a:lnTo>
                    <a:pt x="66" y="97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600" y="1479960"/>
              <a:ext cx="890640" cy="329400"/>
            </a:xfrm>
            <a:custGeom>
              <a:avLst/>
              <a:gdLst/>
              <a:ahLst/>
              <a:rect l="l" t="t" r="r" b="b"/>
              <a:pathLst>
                <a:path w="1568" h="672">
                  <a:moveTo>
                    <a:pt x="476" y="414"/>
                  </a:moveTo>
                  <a:lnTo>
                    <a:pt x="450" y="394"/>
                  </a:lnTo>
                  <a:lnTo>
                    <a:pt x="430" y="354"/>
                  </a:lnTo>
                  <a:lnTo>
                    <a:pt x="412" y="300"/>
                  </a:lnTo>
                  <a:lnTo>
                    <a:pt x="397" y="236"/>
                  </a:lnTo>
                  <a:lnTo>
                    <a:pt x="379" y="169"/>
                  </a:lnTo>
                  <a:lnTo>
                    <a:pt x="356" y="101"/>
                  </a:lnTo>
                  <a:lnTo>
                    <a:pt x="325" y="45"/>
                  </a:lnTo>
                  <a:lnTo>
                    <a:pt x="284" y="0"/>
                  </a:lnTo>
                  <a:lnTo>
                    <a:pt x="323" y="82"/>
                  </a:lnTo>
                  <a:lnTo>
                    <a:pt x="354" y="160"/>
                  </a:lnTo>
                  <a:lnTo>
                    <a:pt x="374" y="236"/>
                  </a:lnTo>
                  <a:lnTo>
                    <a:pt x="385" y="303"/>
                  </a:lnTo>
                  <a:lnTo>
                    <a:pt x="385" y="361"/>
                  </a:lnTo>
                  <a:lnTo>
                    <a:pt x="372" y="403"/>
                  </a:lnTo>
                  <a:lnTo>
                    <a:pt x="348" y="430"/>
                  </a:lnTo>
                  <a:lnTo>
                    <a:pt x="310" y="436"/>
                  </a:lnTo>
                  <a:lnTo>
                    <a:pt x="273" y="419"/>
                  </a:lnTo>
                  <a:lnTo>
                    <a:pt x="252" y="389"/>
                  </a:lnTo>
                  <a:lnTo>
                    <a:pt x="242" y="347"/>
                  </a:lnTo>
                  <a:lnTo>
                    <a:pt x="244" y="300"/>
                  </a:lnTo>
                  <a:lnTo>
                    <a:pt x="252" y="252"/>
                  </a:lnTo>
                  <a:lnTo>
                    <a:pt x="266" y="214"/>
                  </a:lnTo>
                  <a:lnTo>
                    <a:pt x="283" y="187"/>
                  </a:lnTo>
                  <a:lnTo>
                    <a:pt x="299" y="180"/>
                  </a:lnTo>
                  <a:lnTo>
                    <a:pt x="283" y="181"/>
                  </a:lnTo>
                  <a:lnTo>
                    <a:pt x="264" y="196"/>
                  </a:lnTo>
                  <a:lnTo>
                    <a:pt x="246" y="220"/>
                  </a:lnTo>
                  <a:lnTo>
                    <a:pt x="232" y="252"/>
                  </a:lnTo>
                  <a:lnTo>
                    <a:pt x="221" y="294"/>
                  </a:lnTo>
                  <a:lnTo>
                    <a:pt x="217" y="343"/>
                  </a:lnTo>
                  <a:lnTo>
                    <a:pt x="222" y="399"/>
                  </a:lnTo>
                  <a:lnTo>
                    <a:pt x="241" y="461"/>
                  </a:lnTo>
                  <a:lnTo>
                    <a:pt x="241" y="476"/>
                  </a:lnTo>
                  <a:lnTo>
                    <a:pt x="230" y="492"/>
                  </a:lnTo>
                  <a:lnTo>
                    <a:pt x="213" y="507"/>
                  </a:lnTo>
                  <a:lnTo>
                    <a:pt x="193" y="518"/>
                  </a:lnTo>
                  <a:lnTo>
                    <a:pt x="173" y="523"/>
                  </a:lnTo>
                  <a:lnTo>
                    <a:pt x="155" y="523"/>
                  </a:lnTo>
                  <a:lnTo>
                    <a:pt x="144" y="512"/>
                  </a:lnTo>
                  <a:lnTo>
                    <a:pt x="142" y="490"/>
                  </a:lnTo>
                  <a:lnTo>
                    <a:pt x="142" y="458"/>
                  </a:lnTo>
                  <a:lnTo>
                    <a:pt x="135" y="425"/>
                  </a:lnTo>
                  <a:lnTo>
                    <a:pt x="124" y="396"/>
                  </a:lnTo>
                  <a:lnTo>
                    <a:pt x="109" y="372"/>
                  </a:lnTo>
                  <a:lnTo>
                    <a:pt x="93" y="350"/>
                  </a:lnTo>
                  <a:lnTo>
                    <a:pt x="77" y="336"/>
                  </a:lnTo>
                  <a:lnTo>
                    <a:pt x="64" y="327"/>
                  </a:lnTo>
                  <a:lnTo>
                    <a:pt x="53" y="325"/>
                  </a:lnTo>
                  <a:lnTo>
                    <a:pt x="75" y="343"/>
                  </a:lnTo>
                  <a:lnTo>
                    <a:pt x="93" y="374"/>
                  </a:lnTo>
                  <a:lnTo>
                    <a:pt x="106" y="410"/>
                  </a:lnTo>
                  <a:lnTo>
                    <a:pt x="111" y="450"/>
                  </a:lnTo>
                  <a:lnTo>
                    <a:pt x="106" y="488"/>
                  </a:lnTo>
                  <a:lnTo>
                    <a:pt x="86" y="521"/>
                  </a:lnTo>
                  <a:lnTo>
                    <a:pt x="53" y="545"/>
                  </a:lnTo>
                  <a:lnTo>
                    <a:pt x="0" y="554"/>
                  </a:lnTo>
                  <a:lnTo>
                    <a:pt x="0" y="603"/>
                  </a:lnTo>
                  <a:lnTo>
                    <a:pt x="0" y="641"/>
                  </a:lnTo>
                  <a:lnTo>
                    <a:pt x="0" y="665"/>
                  </a:lnTo>
                  <a:lnTo>
                    <a:pt x="0" y="672"/>
                  </a:lnTo>
                  <a:lnTo>
                    <a:pt x="1568" y="672"/>
                  </a:lnTo>
                  <a:lnTo>
                    <a:pt x="1568" y="621"/>
                  </a:lnTo>
                  <a:lnTo>
                    <a:pt x="1568" y="583"/>
                  </a:lnTo>
                  <a:lnTo>
                    <a:pt x="1568" y="561"/>
                  </a:lnTo>
                  <a:lnTo>
                    <a:pt x="1568" y="554"/>
                  </a:lnTo>
                  <a:lnTo>
                    <a:pt x="1539" y="554"/>
                  </a:lnTo>
                  <a:lnTo>
                    <a:pt x="1510" y="554"/>
                  </a:lnTo>
                  <a:lnTo>
                    <a:pt x="1479" y="556"/>
                  </a:lnTo>
                  <a:lnTo>
                    <a:pt x="1451" y="556"/>
                  </a:lnTo>
                  <a:lnTo>
                    <a:pt x="1426" y="552"/>
                  </a:lnTo>
                  <a:lnTo>
                    <a:pt x="1402" y="547"/>
                  </a:lnTo>
                  <a:lnTo>
                    <a:pt x="1386" y="539"/>
                  </a:lnTo>
                  <a:lnTo>
                    <a:pt x="1375" y="525"/>
                  </a:lnTo>
                  <a:lnTo>
                    <a:pt x="1367" y="539"/>
                  </a:lnTo>
                  <a:lnTo>
                    <a:pt x="1358" y="552"/>
                  </a:lnTo>
                  <a:lnTo>
                    <a:pt x="1349" y="565"/>
                  </a:lnTo>
                  <a:lnTo>
                    <a:pt x="1338" y="576"/>
                  </a:lnTo>
                  <a:lnTo>
                    <a:pt x="1326" y="585"/>
                  </a:lnTo>
                  <a:lnTo>
                    <a:pt x="1309" y="590"/>
                  </a:lnTo>
                  <a:lnTo>
                    <a:pt x="1291" y="596"/>
                  </a:lnTo>
                  <a:lnTo>
                    <a:pt x="1271" y="599"/>
                  </a:lnTo>
                  <a:lnTo>
                    <a:pt x="1291" y="583"/>
                  </a:lnTo>
                  <a:lnTo>
                    <a:pt x="1313" y="559"/>
                  </a:lnTo>
                  <a:lnTo>
                    <a:pt x="1333" y="528"/>
                  </a:lnTo>
                  <a:lnTo>
                    <a:pt x="1349" y="494"/>
                  </a:lnTo>
                  <a:lnTo>
                    <a:pt x="1357" y="456"/>
                  </a:lnTo>
                  <a:lnTo>
                    <a:pt x="1355" y="412"/>
                  </a:lnTo>
                  <a:lnTo>
                    <a:pt x="1342" y="369"/>
                  </a:lnTo>
                  <a:lnTo>
                    <a:pt x="1311" y="323"/>
                  </a:lnTo>
                  <a:lnTo>
                    <a:pt x="1324" y="359"/>
                  </a:lnTo>
                  <a:lnTo>
                    <a:pt x="1329" y="396"/>
                  </a:lnTo>
                  <a:lnTo>
                    <a:pt x="1329" y="430"/>
                  </a:lnTo>
                  <a:lnTo>
                    <a:pt x="1322" y="465"/>
                  </a:lnTo>
                  <a:lnTo>
                    <a:pt x="1305" y="496"/>
                  </a:lnTo>
                  <a:lnTo>
                    <a:pt x="1284" y="525"/>
                  </a:lnTo>
                  <a:lnTo>
                    <a:pt x="1253" y="552"/>
                  </a:lnTo>
                  <a:lnTo>
                    <a:pt x="1216" y="574"/>
                  </a:lnTo>
                  <a:lnTo>
                    <a:pt x="1196" y="552"/>
                  </a:lnTo>
                  <a:lnTo>
                    <a:pt x="1178" y="528"/>
                  </a:lnTo>
                  <a:lnTo>
                    <a:pt x="1163" y="505"/>
                  </a:lnTo>
                  <a:lnTo>
                    <a:pt x="1152" y="481"/>
                  </a:lnTo>
                  <a:lnTo>
                    <a:pt x="1145" y="458"/>
                  </a:lnTo>
                  <a:lnTo>
                    <a:pt x="1141" y="432"/>
                  </a:lnTo>
                  <a:lnTo>
                    <a:pt x="1145" y="407"/>
                  </a:lnTo>
                  <a:lnTo>
                    <a:pt x="1152" y="381"/>
                  </a:lnTo>
                  <a:lnTo>
                    <a:pt x="1140" y="399"/>
                  </a:lnTo>
                  <a:lnTo>
                    <a:pt x="1129" y="419"/>
                  </a:lnTo>
                  <a:lnTo>
                    <a:pt x="1119" y="438"/>
                  </a:lnTo>
                  <a:lnTo>
                    <a:pt x="1112" y="456"/>
                  </a:lnTo>
                  <a:lnTo>
                    <a:pt x="1107" y="474"/>
                  </a:lnTo>
                  <a:lnTo>
                    <a:pt x="1103" y="492"/>
                  </a:lnTo>
                  <a:lnTo>
                    <a:pt x="1103" y="508"/>
                  </a:lnTo>
                  <a:lnTo>
                    <a:pt x="1103" y="525"/>
                  </a:lnTo>
                  <a:lnTo>
                    <a:pt x="1098" y="498"/>
                  </a:lnTo>
                  <a:lnTo>
                    <a:pt x="1096" y="463"/>
                  </a:lnTo>
                  <a:lnTo>
                    <a:pt x="1098" y="421"/>
                  </a:lnTo>
                  <a:lnTo>
                    <a:pt x="1107" y="378"/>
                  </a:lnTo>
                  <a:lnTo>
                    <a:pt x="1123" y="334"/>
                  </a:lnTo>
                  <a:lnTo>
                    <a:pt x="1147" y="292"/>
                  </a:lnTo>
                  <a:lnTo>
                    <a:pt x="1180" y="256"/>
                  </a:lnTo>
                  <a:lnTo>
                    <a:pt x="1222" y="225"/>
                  </a:lnTo>
                  <a:lnTo>
                    <a:pt x="1189" y="240"/>
                  </a:lnTo>
                  <a:lnTo>
                    <a:pt x="1156" y="260"/>
                  </a:lnTo>
                  <a:lnTo>
                    <a:pt x="1123" y="283"/>
                  </a:lnTo>
                  <a:lnTo>
                    <a:pt x="1090" y="309"/>
                  </a:lnTo>
                  <a:lnTo>
                    <a:pt x="1061" y="336"/>
                  </a:lnTo>
                  <a:lnTo>
                    <a:pt x="1037" y="361"/>
                  </a:lnTo>
                  <a:lnTo>
                    <a:pt x="1017" y="383"/>
                  </a:lnTo>
                  <a:lnTo>
                    <a:pt x="1005" y="401"/>
                  </a:lnTo>
                  <a:lnTo>
                    <a:pt x="1003" y="359"/>
                  </a:lnTo>
                  <a:lnTo>
                    <a:pt x="992" y="330"/>
                  </a:lnTo>
                  <a:lnTo>
                    <a:pt x="981" y="310"/>
                  </a:lnTo>
                  <a:lnTo>
                    <a:pt x="974" y="294"/>
                  </a:lnTo>
                  <a:lnTo>
                    <a:pt x="972" y="312"/>
                  </a:lnTo>
                  <a:lnTo>
                    <a:pt x="963" y="338"/>
                  </a:lnTo>
                  <a:lnTo>
                    <a:pt x="950" y="365"/>
                  </a:lnTo>
                  <a:lnTo>
                    <a:pt x="934" y="396"/>
                  </a:lnTo>
                  <a:lnTo>
                    <a:pt x="915" y="425"/>
                  </a:lnTo>
                  <a:lnTo>
                    <a:pt x="899" y="450"/>
                  </a:lnTo>
                  <a:lnTo>
                    <a:pt x="884" y="472"/>
                  </a:lnTo>
                  <a:lnTo>
                    <a:pt x="873" y="485"/>
                  </a:lnTo>
                  <a:lnTo>
                    <a:pt x="866" y="490"/>
                  </a:lnTo>
                  <a:lnTo>
                    <a:pt x="884" y="596"/>
                  </a:lnTo>
                  <a:lnTo>
                    <a:pt x="877" y="601"/>
                  </a:lnTo>
                  <a:lnTo>
                    <a:pt x="870" y="607"/>
                  </a:lnTo>
                  <a:lnTo>
                    <a:pt x="864" y="610"/>
                  </a:lnTo>
                  <a:lnTo>
                    <a:pt x="859" y="612"/>
                  </a:lnTo>
                  <a:lnTo>
                    <a:pt x="851" y="612"/>
                  </a:lnTo>
                  <a:lnTo>
                    <a:pt x="844" y="610"/>
                  </a:lnTo>
                  <a:lnTo>
                    <a:pt x="835" y="608"/>
                  </a:lnTo>
                  <a:lnTo>
                    <a:pt x="824" y="603"/>
                  </a:lnTo>
                  <a:lnTo>
                    <a:pt x="815" y="608"/>
                  </a:lnTo>
                  <a:lnTo>
                    <a:pt x="806" y="612"/>
                  </a:lnTo>
                  <a:lnTo>
                    <a:pt x="797" y="616"/>
                  </a:lnTo>
                  <a:lnTo>
                    <a:pt x="791" y="617"/>
                  </a:lnTo>
                  <a:lnTo>
                    <a:pt x="784" y="619"/>
                  </a:lnTo>
                  <a:lnTo>
                    <a:pt x="779" y="617"/>
                  </a:lnTo>
                  <a:lnTo>
                    <a:pt x="771" y="616"/>
                  </a:lnTo>
                  <a:lnTo>
                    <a:pt x="762" y="612"/>
                  </a:lnTo>
                  <a:lnTo>
                    <a:pt x="751" y="605"/>
                  </a:lnTo>
                  <a:lnTo>
                    <a:pt x="742" y="607"/>
                  </a:lnTo>
                  <a:lnTo>
                    <a:pt x="733" y="608"/>
                  </a:lnTo>
                  <a:lnTo>
                    <a:pt x="724" y="610"/>
                  </a:lnTo>
                  <a:lnTo>
                    <a:pt x="717" y="612"/>
                  </a:lnTo>
                  <a:lnTo>
                    <a:pt x="711" y="610"/>
                  </a:lnTo>
                  <a:lnTo>
                    <a:pt x="706" y="608"/>
                  </a:lnTo>
                  <a:lnTo>
                    <a:pt x="698" y="605"/>
                  </a:lnTo>
                  <a:lnTo>
                    <a:pt x="689" y="599"/>
                  </a:lnTo>
                  <a:lnTo>
                    <a:pt x="680" y="592"/>
                  </a:lnTo>
                  <a:lnTo>
                    <a:pt x="642" y="476"/>
                  </a:lnTo>
                  <a:lnTo>
                    <a:pt x="638" y="476"/>
                  </a:lnTo>
                  <a:lnTo>
                    <a:pt x="634" y="485"/>
                  </a:lnTo>
                  <a:lnTo>
                    <a:pt x="622" y="490"/>
                  </a:lnTo>
                  <a:lnTo>
                    <a:pt x="600" y="494"/>
                  </a:lnTo>
                  <a:lnTo>
                    <a:pt x="576" y="496"/>
                  </a:lnTo>
                  <a:lnTo>
                    <a:pt x="549" y="498"/>
                  </a:lnTo>
                  <a:lnTo>
                    <a:pt x="523" y="496"/>
                  </a:lnTo>
                  <a:lnTo>
                    <a:pt x="501" y="494"/>
                  </a:lnTo>
                  <a:lnTo>
                    <a:pt x="485" y="492"/>
                  </a:lnTo>
                  <a:lnTo>
                    <a:pt x="470" y="481"/>
                  </a:lnTo>
                  <a:lnTo>
                    <a:pt x="469" y="461"/>
                  </a:lnTo>
                  <a:lnTo>
                    <a:pt x="472" y="439"/>
                  </a:lnTo>
                  <a:lnTo>
                    <a:pt x="474" y="419"/>
                  </a:lnTo>
                  <a:lnTo>
                    <a:pt x="476" y="4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219320" y="1752480"/>
            <a:ext cx="601956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27428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  <a:ea typeface="华文行楷"/>
              </a:rPr>
              <a:t>如何制定营销计划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           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3733920"/>
            <a:ext cx="26352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400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二、销售分析——评价业绩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475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市场区域业绩与公司平均水平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各产品的销售、成本、利润趋势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分销商的业绩、最终使用者、重要顾客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各区域、产品、渠道等的销售结果（过去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现在）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114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三、竞争者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475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问题审视——竞争者和自己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结果的取得、衡量和评价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重要力量、负债，如何变化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未业战略如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彻底分析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研究过去，重构过去，评价资源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设计新品、生产制造、营销、融资、管理、成功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产品的比较分析（过去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未来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未来的营销战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114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四、顾客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475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顾客是谁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购买什么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如何选择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为何选择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何处购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何时购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那又怎样：顾客行为及影响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638680" y="2362320"/>
          <a:ext cx="255924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55924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114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五、规划假设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23880" y="23623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明确陈述未来的假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估计市场潜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、销售预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营销战略的意义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三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目标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一、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公司目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二、分公司目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三、营销目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数量（销售量、份额、利润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方向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数字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时间限制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基本原理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四、计划目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定价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广告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促销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竞争者目标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服务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四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营销战略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52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战略性的可选方案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目标顾客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目标竞争者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核心战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23623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五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营销方案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1760" y="1371600"/>
            <a:ext cx="7391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定价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广告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促销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文本、媒体、交易促销和顾客促销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销售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分销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开发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服务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市场调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预算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广告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促销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销售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调查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开发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95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陈述书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成本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销售额、销售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可变成本、固定成本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收益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利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总额利润、单位利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投资回报率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与公司平均水平的比较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六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财务文件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4572000"/>
            <a:ext cx="3047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二手数据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销售报告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定单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非正式来源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95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主要数据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销售记录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（尼尔森、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I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专业咨询公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消费者组织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七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监督和控制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6705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七部分：权变计划和其它文件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144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权变计划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其它要考虑的战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杂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2743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0" y="914040"/>
            <a:ext cx="4114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营销计划概要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营销计划包括几部分？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摘要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形势分析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目标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营销战略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营销方案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财务文件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监督和控制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权变计划和其它各种文件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199880" indent="-171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3926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762120"/>
            <a:ext cx="4114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一部分：摘要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摘要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制定二、三页的计划摘要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主要强调目前的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形势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目标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战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首要行动计划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财务期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二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形势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一、产品大类分析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二、销售分析（评价业绩）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三、竞争者分析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四、顾客分析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五、规划的假设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39736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一、产品大类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71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市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活动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销售、成本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的毛利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技术——产品和工艺的改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特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政府和社会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吸引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市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规模、范围、竞品情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相关产品的市场潜力及供求趋势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活动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分销层次上的定价情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分销渠道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推销政策和实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广告和促销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一、产品大类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销售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\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成本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\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毛利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销售历史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成本历史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利润历史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线的销量和利润分级情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技术：产品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工艺改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速度（生命周期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新品设计与研发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市场影响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和工艺的关系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一、产品大类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特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行业使用规模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最终使用规模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购买频率、数量、时间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购买过程、实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服务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政府和社会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法律环境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财政和货币政策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保护消费者利益主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环境的影响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一、产品大类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495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一、产品大类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吸引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总体市场因素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规模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增长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周期性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季节性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大类因素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生产能力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可能进入市场的新产品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对手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供应商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购买者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替代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环境因素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社会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政治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人口统计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技术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法律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03:14:25Z</dcterms:created>
  <dc:creator>ZHQ</dc:creator>
  <dc:description/>
  <dc:language>en-US</dc:language>
  <cp:lastModifiedBy>ZHQ</cp:lastModifiedBy>
  <cp:lastPrinted>2000-06-30T03:59:33Z</cp:lastPrinted>
  <dcterms:modified xsi:type="dcterms:W3CDTF">2003-12-16T12:36:43Z</dcterms:modified>
  <cp:revision>508</cp:revision>
  <dc:subject/>
  <dc:title>营销计划</dc:title>
</cp:coreProperties>
</file>