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A20-3EDA-4D0A-AD23-4B07087C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BA9-E382-4513-850E-7C385958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CBC-FEEE-410C-8D51-F5C87BFC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C05-4AD7-4766-85A4-B325E0CA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29B-5C5E-4287-8716-41126C91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E01-8349-47BB-A953-C11AF448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177-979A-48CE-90DA-1AA3BBC7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1C0-9E25-42B0-AE0D-812D9D0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43D-6965-4D0A-A2CF-011ABF4D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FC3-7C1F-4944-9FF5-05A1468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9E3-8295-43D4-85D8-CC4F9891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A90-7E97-4EF7-8CB0-96DC3D1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14FC-3E44-462E-BDCA-0BE478712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228600" y="762120"/>
            <a:ext cx="0" cy="586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905120" y="228600"/>
            <a:ext cx="7010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24880" y="624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  <a:ea typeface="隶书"/>
              </a:rPr>
              <a:t>韩翼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2286000" cy="1752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展厅零售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真正意义的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塑造以客为尊的经营理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麦当劳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服务、品质、价值、整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倾听客户的声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撷取赢家经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员工培训与生涯规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扫除争取客户的障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与考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身作则（主管人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消费者购买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种心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过路时扫描商品一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兴趣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商品抱有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联想自己使用该商品时的情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欲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希望拥有该商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较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虑购买何者较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念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任该商品的货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动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定决心购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对购入的商品及接待服务感到满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顾客购买心理与销售应对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 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客 理     注      兴       联 欲     比  信     行       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购 反     意      趣       想 求     较  念     动       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买 应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销 应    等               商 商      商 商     金 商    商 欢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售 对    待       接    品 品      品 品     钱 品    品 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技    时       近    提 说      推 保     接 包    保 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员 巧    机               示 明      荐 证     受 装    养 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待机的六项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决定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守在有利的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正确的姿势来等待顾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没有顾客的时候，要进行检查及整理商品的工作，以备下一次的贩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常意识到顾客的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七嘴八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趋进招呼的七个机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注意某一特定商品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用手接触商品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好象在寻找东西的时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顾客四目交接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与同伴商量的时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放下随身物品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窥视商品陈列柜和商品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商品提示的五个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顾客观察使用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尽可能让顾客触摸商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顾客感受到该商品的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顾客看到复数以上的商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顾客从低价格看到高价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利用提问了解顾客需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连续发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顺应顾客的要求介绍商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问先易后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想办法提出一些促使顾客购买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创造良好的购买范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产品介绍的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想办法让顾客多看多接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产品的特点转化成顾客的好处，并给予证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进行比较分析，增强顾客购买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产品销售着眼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计开发的意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原料材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制造、加工技术、专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性能、用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安全性、耐久性、信赖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操作性、使用方法、保养方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经济性、价格、折扣率辅助着眼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计、色彩、感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流行性、注意程度、评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包装、商标、形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各类活动、赠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售后服务、保证其他着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宣传广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销售业绩、过去顾客的抱怨、普及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其他顾客的体验、评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顾客的购买讯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拿起商品，热心地玩味，品尝，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心地看商品说明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突然独自叹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很亲切地提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价格和购买条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售后服务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同伴商量。心情很好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新回来看同一种商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商品销售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出好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盯着商品思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出成交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题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/2 eg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假定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害分析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警戒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起死回生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作诉求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感性诉求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销售人员的服务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真正的服务：非以金钱为中心，非降价，非折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金钱（物质）服务的五大领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反复观察、学习、运用、提高，发展自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查出顾客不买的真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不是目前还用不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是付款方面的问题，我们可以再商量，尽量让您方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价钱方面是否有什么不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说明是否有什么地方不够清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您对这种商品不太感兴趣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您对这个厂牌有什么意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不喜欢这种样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您是否正考虑别家公司的商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已经订货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暂时还不考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五种异议的顾客处理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产品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需求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来源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价格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句处理异议的金玉良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要真心的迎接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常聆听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冷静和放松的心情来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持眼光的接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问题方式再次重述其异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复异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不争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不捏造事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认真的处理所有的异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议是达成交易的机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客户类型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探价的客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情景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店员：    它有以上这些特点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面与目前的商品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全不同，相信您用了之后一定满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顾客：    恩，不过这个部分及操作方面似乎有些不便…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店员：    不会的，感觉上或许有些不方便，但是用过的人都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操作简单、方便，这一点您大可放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顾客：    是吗？我还是觉得有些麻烦。本来今天也没有打算购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买，我看改天在过来看看好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情景Ⅱ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常可以在店面看到这一幕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客： 事实上，我只有这些预算…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店员： 那么，这边这个您觉得如何…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客：哦，这个嘛……好像太平凡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店员：我们有贵一点的，相信您会喜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客：话是不错，但是以这种价钱应该买的起整套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店员：就目前来说，恐怕有些困难…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客：那，我再看看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结伴同行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并不一定单独前来，有时候是夫妻同行、母（父）女（子）同行、兄妹同行、或朋友同行。人数方面有俩人同行、三人同行、甚至多人结伴同行。这种俩人以上相偕购物的顾客成为同伴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情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某银楼店里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两位顾客结伴而来，其中一名妇女正为选择戒指伤透脑筋。另一位妇女在店里四处闲逛，一副无事可做的样子。这时—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我已经看的眼花缭乱了……。你来看看，哪一个好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这个嘛……。（回答得并不起劲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要是你，你会选择哪一个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 我吗？我觉得戒指这一类的东西个人喜好不同，我认为这个不错，你不见得赞同……，所以嘛，你还是自己决定好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这是顾客自己征求同伴者意见的情况。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多识广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情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这只棒球手套的皮质、颜色、尺寸看起来完全一样，价格却相差一百五十元，到底差别在哪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这个……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年轻的店员把两只手套拿在手上翻来覆去看了一阵子恩，……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我想价格高的一方品质该比较好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说完，满脸通红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我知道，品质好价格一定比较高。我问的是，它的优点在那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……。（不晓得怎么应付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看来你似乎不太清楚。我虽然不专精，但是依我之见， 两者的差别应该在牛皮的部位不同，价格便宜的看似结实，价格贵的看似脆弱，实际上后者韧度够，用起来较结实，所以价格相对就提高了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原来如此！抱歉，我刚来不久，这方面的知识还有待加强，请多多包涵。我这里有商品目录，能不能请您指教一二 …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店员说着，拿出一本商品目录，摊在柜台上，这时，顾客态度认真……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其实我所知有限……。不过，我很欣赏你的诚实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样吧，我要价格高的那副，另外，再买一箱棒球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购买特价品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购买特价品的客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商店以纪念开幕周年回馈特卖等名义举办大特卖活动时，的确吸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了不少的顾客。不过，这种场合很少看到老客户，一波波的人潮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是平日生疏的新面孔。也就是说，冲着特卖机会而来的特卖客占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多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情景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对不起，有没有干净一点的？这件沾了一些污垢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就是稍微脏了点才这么便宜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那有没有比较干净的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……太太，如果你要干净没污点的，这边都是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价格——不一样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当然不一样。这些是特价品，价格比较便宜，那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全是高级品，价格自然高出许多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这种应付态度真差劲，不但不感激顾客的惠顾，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而摆出轻视的态度，好象卖毛衣给她是一种恩惠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购买特价品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情景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今天早上广播的特价毛衣在哪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那个呀？已经卖完了。（态度很冷淡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不是才刚开始营业吗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话是不错可是客人早就迫不及待的等在外面了，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以……。（没有丝毫抱歉的意思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真的吗？特价毛衣到底有几件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相当多啊……。这样好了，太太，您何不看看那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毛衣？反正特价品的品质顶多就值那些钱，还是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看这件毛衣如何？（店员拼命推销别的货品。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遇到这种情形多半会寻思：“中了他们的陷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了”，心里自然老大不高兴。如此一来，特卖活动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徒具形式罢了，一点意思也没有，真不知道为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么要举办这个活动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熟客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情景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某绸缎庄内，老板隔着柜台正在招呼一名挑选羊毛布料的妇女。其他店员忙着整理架上的商品。这时候，店门前停了一辆高级轿车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里面跨出一位衣着华丽的妇人，走向店内。老板见状，满脸堆笑，朝这边高声招呼：啊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，同时朝着有经验的店员使眼色，意思要他招呼这位太太进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板：   这位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，欢迎、欢迎，里面请。（店员们抓住这个机会，争相欢迎到：“欢迎光临”。一时招呼声此起彼落，热闹的很。静悄悄的店内顿时充满生气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进来后，老板抽空将挑选羊毛布料的妇女丢给一位店员，自己走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身边）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板：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，谢谢您经常关照小店……。二、三天前我在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路口看见您，看您依旧神采奕奕，……。（东扯西扯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说一大堆奉承话。接手招呼那位妇女的店员也一搭一唱，在旁边打帮腔。挑选羊毛料的妇女完全被抛在一旁）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有没有好一点的质料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以毛料来说，它的质料相当不错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总之，这种毛料已经是数一数二……。（态度冷淡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是吗？我再考虑看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好，慢走，下次再来。（一副心不在焉的样子，很容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可以看出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是该店的熟客，挑选羊毛料的妇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是新顾客，因此在熟客户面前不受重视。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增加服务意识应克服的顽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七种病症是低潮的元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轻视基本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生枯燥乏味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丧失向上心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缺乏创意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抱怨不满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际关系痴呆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信心缺乏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熟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情景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老板：   啊，林小姐，里面请。我正念着您呢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我晚上有个同学会，来的及吗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老板：   晚上……。好的，我想办法帮您赶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对不起，麻烦您了。（说完，走进贵宾室。美容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老板娘一有空会过来跟她打招呼几句。一些同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贵宾室等待洗头的小姐们一边看杂志一边瞄向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边，思量着：这小姐不晓得是谁？大约三十分钟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老板：   林小姐，劳您久候了。这边请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啊，该我了……。（表情略显惊讶，抱歉似的站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来。其他小姐们见状面面相觑，都暗自想到：太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，怎么可以连跳四个——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犹豫不决的客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情景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对不起，麻烦把那个给我看一下……。刚说完——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那边那个也借看一下。（没多久——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啊，那个似乎也不错。（——三心二意，很难抉择。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是啊，这个目前很流行，风评不错。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顾客一下要这个，一下要那个，没多久，柜台上已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满七、八种商品。顾客东摸摸、西挑挑，最后——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到底选哪一个好？哎呀，我已经眼花缭乱，不知如何是好了。这样吧，我明天再来。对不起，麻烦你了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这位顾客就这样空手而回。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任何一家商店都可以看到这样的情景。一开始，顾客只是东瞧瞧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西摸摸，到最后连自己也不晓得如何抉择，我们称这种顾客为「犹豫不决型」。一般说来，女性占大多数，尤其在选购流行性强的商品时更容易发生这种情形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：   这三双看起来都不错。依你看，哪一双最合适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板：   这个嘛…。个人喜好不同，我也不好说什么，不过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双绿色的似乎最适合太太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：   哦？我觉得这双银色的也不错，你看呢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板：   是啊！那双也很漂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：   这双乳白色的最能衬托…，是不是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这位妇女在老板八面玲珑的应对下，完全失去选择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力。最后——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：   谢谢你费心介绍，我回去考虑看看再来，对不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事情就这样结束了。老板一边发牢骚，一边将乱七八糟的鞋子摆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原来的地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慎重型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情景Ⅰ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某电器行店内—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我想买一台冰箱，能不能让我看一下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欢迎光临，请进。我们有很多机型，您慢慢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我是外行，机械方面完全不懂，为什么每台价钱都那么高啊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这些都是新机种，性能特别好，外观设计也很别致，所以价格方面自然提高许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或许吧！不过这些价格都是超出我的预算范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现在你或许觉得很贵，等你每天使用它后，相信府上大大小小包括您在内，一定会觉得当初的决定毕竟是对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也许吧！不过价格方面比我想象中高太多了…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如果您喜欢，价钱方面可以算便宜一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便宜一点？你是说可以打八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您说笑了…。我特别优惠您，少算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好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算什么优待，简直和没打折一样嘛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您不晓得，现在同行竞争的很激烈，简直没有什么利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样好了，我再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，总共少算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…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……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先生，您到底多少钱要买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这…，改天再和我太太过来看好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情景Ⅱ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两位同伴走进一家服饰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这件外套不错，可是价钱似乎贵了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请相信我们，这个价钱绝对合理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哦？可是同样一件外套，先前那家商店价格却定的低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会不会是某些地方看错了？两件衣服虽然看起来一样，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拿在手中对比，自然分得出好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可是真的跟这件一样啊！喂，你说是不是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是啊！他说的没错，能不能算便宜一点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这个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你们是不是详细调查过那家商店，不然怎么说的那么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定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没有，可是我们店里走的是薄利多销的路线，绝对不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能比别家商店贵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你是说不能减价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不二价虽然值得鼓励，不过可别买到贵的，下次再来吧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好吧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杀价型客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杀价的手法很多，例如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就买这个好了。能不能少算点？（这种杀价相当温和。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有些人认为店方理所当然要减价，杀起价来态度强硬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怎样？你打算打几折？（也有一种施恩型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我特地从那么远的地方来，好歹少算一点嘛！（在施恩型中，有人态度强硬，比较难对付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前面有那么多家商店我都没去，直接上你们这儿。冲着这点你也应该少算点啊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体贴型的杀价法是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我知道近来生意不好做，利润少，很难开口要你减价，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是我自己钱夹方面也有困难，能不能少算些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也有利用其他商店的价格来杀价的 牵制型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我本来不想说，但是前面那家△△△也有和这个相同的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西，标示不二价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元，这个价格你们也可以卖吧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针对店方要害的杀价法是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不能杀价没关系，顶多不买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个人理解—销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销售就是炒油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产品：油菜、个人品格：敷料（油和盐）、激情：碟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销售过程是人格的魅力的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激情是对产品完整的烘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的销售人员应该让每个客户都知道我们的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品是世界上最棒的实木地板。一定让他们带着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憾走出我们的卖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ron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销售反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深深爱着我们的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给爱他的人以同样无微不至的关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榜样的力量是无穷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既要满足消费者、又要引导消费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服务分销商，服务最终客户，决不和客户吵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意”是基本的待客销售之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诚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熟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创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可欠缺的七项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的（目标）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利益（成本）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品质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问题（改善）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律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作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务的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迅速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pe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灵巧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mar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微笑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m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诚恳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incer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研究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ud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销售人员的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该有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衣冠、仪容不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情阴暗，脸上没有笑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仅以口头解释，没有配合身体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常叹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视线始终朝下，没有直视对方的眼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腿经常神经质地抖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左右振动，做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动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紧要关头在客户面前抽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很少做备忘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销售人员应有的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有的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服装、仪容端庄，给人很好的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常面带微笑，表情明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善用脸部、两手及身体语言进行商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常笑容满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视线放在正确位置，且适时看着对方的眼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脚跟始终着地，不要上下抖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商谈中决不抽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必要时记得做备忘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语言和激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礼貌用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来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激情销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5:09:57Z</dcterms:created>
  <dc:creator>ZHQ</dc:creator>
  <dc:description/>
  <dc:language>en-US</dc:language>
  <cp:lastModifiedBy>DELL</cp:lastModifiedBy>
  <dcterms:modified xsi:type="dcterms:W3CDTF">2005-06-12T10:25:37Z</dcterms:modified>
  <cp:revision>3</cp:revision>
  <dc:subject/>
  <dc:title>展厅零售技巧</dc:title>
</cp:coreProperties>
</file>