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B12-EA02-4E39-8764-710C2D34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BE5-0FFD-4724-9A58-66A24F27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5FC-15AA-4FC5-9651-0C6F3535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CA6-62ED-4BDD-808B-B7B2D0F6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4508-70B1-430F-A0FD-A8782AB7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253E-EDAB-4DAB-BC7D-8AB88F73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54BD-A16E-4174-A6D0-0F52F65C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E732-C6B0-47E9-AC72-49369B09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4257-9360-4483-A939-919A9AA1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8258-AEEC-4734-B525-784416EA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C605-792A-4315-A350-7B3F2092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88D-888F-4B47-ACEB-1E397319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6B10-0241-4ECE-B4F3-332F9414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2095-495B-46C1-B5DC-08BFC4C3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5930-E544-4A76-888B-DD73572F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002B-E47F-431D-9268-38995BC9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5939-5358-46DF-84CF-FF70741F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4A2-926D-488E-9C39-2F7992E6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EF6-ECAF-4D54-84D0-5A28C7E8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468-CB11-4762-902D-4CD33266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54A-D02D-4695-A9DC-533701FD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C6C-1E75-4AB3-A3FD-9B7E123F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151-E4E7-4EEB-B8F0-5ED7F08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20B-ED10-43F6-93EC-FCDA0102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FF01-C65C-4E30-A486-3D4B92FEE2F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6941-C000-48F6-BAA8-97EBD3E1F81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514600" cy="904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华文行楷"/>
              </a:rPr>
              <a:t>莱茵阳光区域经理促销活动培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莱茵阳光山西公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地址：太原市千峰南路千锋商务大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2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电话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0351-6048018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3100001825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胡云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6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竞争品牌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地市场排名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位的品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主销产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销售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宣传方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促销方式及效果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店面状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人员状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1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7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广宣分类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电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报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公车条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彩车及车队（自行车、摩托车、汽车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小区、街区及市场条幅、海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单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短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电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通道及协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调查内容包括价格、消费者接受程度、主流宣传方式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  <a:ea typeface="华文行楷"/>
              </a:rPr>
              <a:t>二、方案及预算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根据市场调查的各项信息确立促销方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完整的方案必须配备一个合理准确的预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方案必须“量体裁衣”确定促销方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方案必须“量体裁衣”确定宣传方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方案必须“量体裁衣”确定人员及物料方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77677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Arial"/>
                <a:ea typeface="华文行楷"/>
              </a:rPr>
              <a:t>三、活动准备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时间★ ★ 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5-3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总体运作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-7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集中轰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工作要求★ ★ ★ 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步步为营         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循序渐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人员准备★ ★ ★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正式工         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临时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物料准备★ ★ ★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场内         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场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客户信息收集（预定单）★ ★ ★ ★ 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内部信息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店外信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莱茵阳光logo%20拷贝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时间★ ★ ★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2" name="莱茵阳光logo%20拷贝" descr=""/>
          <p:cNvPicPr/>
          <p:nvPr/>
        </p:nvPicPr>
        <p:blipFill>
          <a:blip r:embed="rId2"/>
          <a:stretch/>
        </p:blipFill>
        <p:spPr>
          <a:xfrm>
            <a:off x="6172200" y="4800600"/>
            <a:ext cx="2971800" cy="905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5-3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总体运作（时间可根据市场和促销方式适当调整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口头发布活动信息，收集客户信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预订单签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严把价格关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(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零售价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活动价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-7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集中轰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广宣开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临时工启用，（配合正式工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预订单开始签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短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步步为营、循序渐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电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410080"/>
            <a:ext cx="1067040" cy="9907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工作要求★ ★ ★ ★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促销活动最重要的因素——”气氛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工作做到“步步为营、循序渐进”的目的在于少花钱，多办事；同时。让工作团队和客户都有紧迫感；三则，工作团队更能有条不紊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步步为营、循序渐进是指：工作切忌跳跃式开展。什么时间做什么事情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7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、人员准备★ ★ ★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正式工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临时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　　↓ 　　　　　　　　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实际工作为主　　　宣传工作为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宣传工作为辅　　　实际工作为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保安人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演出、礼仪等配套人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莱茵阳光logo%20拷贝" descr=""/>
          <p:cNvPicPr/>
          <p:nvPr/>
        </p:nvPicPr>
        <p:blipFill>
          <a:blip r:embed="rId2"/>
          <a:stretch/>
        </p:blipFill>
        <p:spPr>
          <a:xfrm>
            <a:off x="6629400" y="595296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物料准备★ ★ ★ 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85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场内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场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　↓ 　　　  　　　　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   条幅、喷绘             舞台、条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拱门、气球             拱门、氢气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   吊旗、Ｘ展架　　      大型喷绘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服装、绶带            宣传及演出队伍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气球、价格牌               礼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……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以上选择性使用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客户信息收集（预定单）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★ ★ ★ ★ ★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内部信息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店外信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店内新信息                 小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已安装客户              装饰公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已订单为安装客户           木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内部员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。。。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  <a:ea typeface="华文行楷"/>
              </a:rPr>
              <a:t>四、活动开展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-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天集中轰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大力宣传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客户通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物料制作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预订单签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活动前一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场地布置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通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预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572"/>
                </a:solidFill>
                <a:latin typeface="Arial"/>
                <a:ea typeface="华文行楷"/>
              </a:rPr>
              <a:t>促销的精华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气氛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团队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气氛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终端客户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气氛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活动现场的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集中轰炸之“大力宣传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造势不好等于失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所以工作都应该集中在宣传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把握宣传的细节—广告方式、形式、费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区、媒体、通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工程回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、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集中轰炸之“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华文行楷"/>
              </a:rPr>
              <a:t>客户通知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短信息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简短通知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精确告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电话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配合短信简短通知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利诱告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拜访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一次搞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 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集中轰炸之“物料制作”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负责物料的人员应把握物料使用的时效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物料制作尽量使各物料可重复使用（内容，时间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7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4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集中轰炸之“预订单签订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预定单签订的由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预定单签订的技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强调时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强调机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强调优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把握签单灵活性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----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花色、型号、数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把握订金额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解释活动流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864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活动前一天之“场地布置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总体把握：品牌、主题、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充分考虑顾客的购买舒适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内场：根据活动流程布置，样品及其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外场：考虑天气、时间、市政等外部因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3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 活动前一天之“通知客户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对未签订预定单的客户重点通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如果目标客户过少，安排“托”制造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如果目标客户过少，通知已签订客户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根据预算确定通知数量，规避抽奖等支出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6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活动前一天之“活动预演”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意外防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流程演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收尾工作应该在预演后安排妥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所有人员必须到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9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Arial"/>
                <a:ea typeface="华文行楷"/>
              </a:rPr>
              <a:t>五、活动现场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按部就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灵活控制机动奖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控制时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保安工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商场配合工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Arial"/>
                <a:ea typeface="华文行楷"/>
              </a:rPr>
              <a:t>六、鸣鼓收兵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利用媒体和电话等通知客户，活动结束并表示感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让活动隐藏性继续下去，继续定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控制活动的时间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把握活动的可信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4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62160" y="1066320"/>
            <a:ext cx="4647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572"/>
                </a:solidFill>
                <a:latin typeface="Arial"/>
                <a:ea typeface="华文行楷"/>
              </a:rPr>
              <a:t>谢</a:t>
            </a:r>
            <a:br>
              <a:rPr sz="7200"/>
            </a:br>
            <a:r>
              <a:rPr b="1" lang="zh-CN" sz="7200" spc="-1" strike="noStrike">
                <a:solidFill>
                  <a:srgbClr val="007572"/>
                </a:solidFill>
                <a:latin typeface="Arial"/>
                <a:ea typeface="华文行楷"/>
              </a:rPr>
              <a:t>谢</a:t>
            </a:r>
            <a:br>
              <a:rPr sz="7200"/>
            </a:br>
            <a:r>
              <a:rPr b="1" lang="zh-CN" sz="7200" spc="-1" strike="noStrike">
                <a:solidFill>
                  <a:srgbClr val="007572"/>
                </a:solidFill>
                <a:latin typeface="Arial"/>
                <a:ea typeface="华文行楷"/>
              </a:rPr>
              <a:t>大</a:t>
            </a:r>
            <a:br>
              <a:rPr sz="7200"/>
            </a:br>
            <a:r>
              <a:rPr b="1" lang="zh-CN" sz="7200" spc="-1" strike="noStrike">
                <a:solidFill>
                  <a:srgbClr val="007572"/>
                </a:solidFill>
                <a:latin typeface="Arial"/>
                <a:ea typeface="华文行楷"/>
              </a:rPr>
              <a:t>家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2819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7" name="莱茵阳光logo%20拷贝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35812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华文行楷"/>
              </a:rPr>
              <a:t>内容概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一、市场调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二、方案及预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三、活动准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四、活动开展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五、活动现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六、鸣鼓收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  <a:ea typeface="华文行楷"/>
              </a:rPr>
              <a:t>一、市场调查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经销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市场信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城市状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终端客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小区信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竞争品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广宣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物料费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1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经销商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46160" y="2014560"/>
          <a:ext cx="6904080" cy="4292640"/>
        </p:xfrm>
        <a:graphic>
          <a:graphicData uri="http://schemas.openxmlformats.org/drawingml/2006/table">
            <a:tbl>
              <a:tblPr/>
              <a:tblGrid>
                <a:gridCol w="841320"/>
                <a:gridCol w="784440"/>
                <a:gridCol w="498240"/>
                <a:gridCol w="609840"/>
                <a:gridCol w="384120"/>
                <a:gridCol w="610920"/>
                <a:gridCol w="613080"/>
                <a:gridCol w="610920"/>
                <a:gridCol w="611280"/>
                <a:gridCol w="612720"/>
                <a:gridCol w="727200"/>
              </a:tblGrid>
              <a:tr h="58140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 场 分 析 表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区县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场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代理商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详细地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电话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品行才智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店面几个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是否专卖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效益如何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与其谈否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不合作原因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</a:t>
                      </a: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县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场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</a:t>
                      </a: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县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场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685800"/>
            <a:ext cx="822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市场信息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295280"/>
          <a:ext cx="8229600" cy="5257440"/>
        </p:xfrm>
        <a:graphic>
          <a:graphicData uri="http://schemas.openxmlformats.org/drawingml/2006/table">
            <a:tbl>
              <a:tblPr/>
              <a:tblGrid>
                <a:gridCol w="700200"/>
                <a:gridCol w="1137960"/>
                <a:gridCol w="1138320"/>
                <a:gridCol w="1138320"/>
                <a:gridCol w="700200"/>
                <a:gridCol w="1576440"/>
                <a:gridCol w="1137960"/>
                <a:gridCol w="700200"/>
              </a:tblGrid>
              <a:tr h="110916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区域市场调查总结表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区域容量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建材市场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场状况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品牌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莱茵阳光销量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意向客户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备注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城市状况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人口数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地理状况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活动集中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市场分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城市经济能力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支柱产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4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终端客户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人均消费能力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衣、食、住、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消费观念及习惯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木地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小区总体分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5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5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小区信息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区数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房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地理位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装修数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装修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楼盘信息调查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番茄花园</cp:lastModifiedBy>
  <dcterms:modified xsi:type="dcterms:W3CDTF">2007-07-18T00:54:49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